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E638-A75F-49BA-A3C5-6D1697FCF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7200" y="4242240"/>
            <a:ext cx="85964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93FA-56AD-4497-9397-1AB08A1A3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720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216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F2C2-6E37-4C2F-A61F-0BC100F06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3480" y="138240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60120" y="138240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7200" y="424224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3480" y="424224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60120" y="424224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5872-6AAA-48BE-AEF0-3C8674957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74480" y="646200"/>
            <a:ext cx="86691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720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1784-30DB-4C8D-8177-351E3F1A7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216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7200" y="4242240"/>
            <a:ext cx="85964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7200" y="4242240"/>
            <a:ext cx="85964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720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216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53480" y="138240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60120" y="138240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7200" y="424224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53480" y="424224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60120" y="424224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EFED-A17D-44BC-93F2-BA6F99D42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70BC-98E9-439D-B83E-9AD7CF37D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FF77-9F8F-4F8F-B1DB-A43D546CD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4480" y="646200"/>
            <a:ext cx="86691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ADD1-BAB2-47C7-BC51-E209E0956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720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31AA-F9D0-4407-8B4F-30004B47A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216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6F04-8A0D-4297-B867-05819B999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7200" y="4242240"/>
            <a:ext cx="85964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DF82-F20B-4193-B61F-39FA5F451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821640" y="0"/>
            <a:ext cx="1854000" cy="56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51600" y="115560"/>
            <a:ext cx="3920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E62C-7F17-4751-AF99-869E072F2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16080" y="0"/>
            <a:ext cx="4292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Performance Analysis with MAR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G MARTE Information Day, Dec 12 2007,  by Murray Wood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25360" y="0"/>
            <a:ext cx="882720" cy="487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134640" y="541440"/>
            <a:ext cx="9009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5000" y="541440"/>
            <a:ext cx="0" cy="615312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58400" y="654120"/>
            <a:ext cx="775044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66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54520" y="6105600"/>
            <a:ext cx="2467080" cy="75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134640" y="2090880"/>
            <a:ext cx="9009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35000" y="282600"/>
            <a:ext cx="22320" cy="631656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34640" y="297000"/>
            <a:ext cx="9009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530440" y="6021360"/>
            <a:ext cx="1514520" cy="836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280" y="653760"/>
            <a:ext cx="83235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Tahoma"/>
              </a:rPr>
              <a:t>Performance Analysis with MARTE</a:t>
            </a:r>
            <a:endParaRPr b="0" lang="en-US" sz="40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48880" y="2378160"/>
            <a:ext cx="7805880" cy="35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rray Wood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. of Systems and Computer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leton University, Ottawa, Can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 presentation to OMG’s MARTE Information Day, Dec 12,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cerns of Performance Analysis (P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ow MARTE supports P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me examples from the doc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Statistical Quantities for Output from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verage, variance percentile or distribution of response ti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verage throughput of user requests and other messag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tabase request rat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/O rat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verage utilization of resources, or probability distribution of busy uni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uffers occupi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usy thread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ability a lock is in us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2D6F-E92B-400B-A3C4-44E770E630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Attributes that are used differently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e.g.: Workload Intens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pen workload: an arrival stream with a rate (here: Poisson arrival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&lt;&lt;GaWorkloadEvent&gt;&gt;{open(interArrT=(exp(17,ms)))}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open” is one of a set of choices; it is a function with one argument, the interarrival time.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exp( )” is a function with one argument, the me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17,ms” is an NFP for the value of the me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periodic stream is also possible, but less common in these syste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F685-477D-4B7E-B632-CAA68D0B85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Workload Intensity (cont’d)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osed Workload: a population making reques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&lt;&lt;GaWorkloadEvent&gt;&gt;{closed(population=Nusers, extDelay=ThinkTime)}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Nusers and ThinkTime are variables. For analysis Nusers should be an integer and ThinkTime, a time value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orkload Generator: a mechanism, usually expressed by a state machine, for generating the arrival ev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n be used to initiate particular sequences of sub-scenarios, with probabilities of next sub-scenario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.g.      brows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3529080" y="6114960"/>
            <a:ext cx="671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28800" y="6229440"/>
            <a:ext cx="828720" cy="511200"/>
          </a:xfrm>
          <a:custGeom>
            <a:avLst/>
            <a:gdLst/>
            <a:ahLst/>
            <a:rect l="l" t="t" r="r" b="b"/>
            <a:pathLst>
              <a:path w="522" h="322">
                <a:moveTo>
                  <a:pt x="504" y="0"/>
                </a:moveTo>
                <a:cubicBezTo>
                  <a:pt x="513" y="106"/>
                  <a:pt x="522" y="213"/>
                  <a:pt x="450" y="261"/>
                </a:cubicBezTo>
                <a:cubicBezTo>
                  <a:pt x="378" y="309"/>
                  <a:pt x="144" y="322"/>
                  <a:pt x="72" y="288"/>
                </a:cubicBezTo>
                <a:cubicBezTo>
                  <a:pt x="0" y="254"/>
                  <a:pt x="9" y="154"/>
                  <a:pt x="18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28880" y="5470560"/>
            <a:ext cx="1629000" cy="473040"/>
          </a:xfrm>
          <a:custGeom>
            <a:avLst/>
            <a:gdLst/>
            <a:ahLst/>
            <a:rect l="l" t="t" r="r" b="b"/>
            <a:pathLst>
              <a:path w="1026" h="298">
                <a:moveTo>
                  <a:pt x="1026" y="271"/>
                </a:moveTo>
                <a:cubicBezTo>
                  <a:pt x="995" y="232"/>
                  <a:pt x="981" y="74"/>
                  <a:pt x="837" y="37"/>
                </a:cubicBezTo>
                <a:cubicBezTo>
                  <a:pt x="693" y="0"/>
                  <a:pt x="302" y="2"/>
                  <a:pt x="162" y="46"/>
                </a:cubicBezTo>
                <a:cubicBezTo>
                  <a:pt x="22" y="90"/>
                  <a:pt x="34" y="246"/>
                  <a:pt x="0" y="2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98920" y="6286680"/>
            <a:ext cx="2836800" cy="448920"/>
          </a:xfrm>
          <a:custGeom>
            <a:avLst/>
            <a:gdLst/>
            <a:ahLst/>
            <a:rect l="l" t="t" r="r" b="b"/>
            <a:pathLst>
              <a:path w="1787" h="283">
                <a:moveTo>
                  <a:pt x="19" y="0"/>
                </a:moveTo>
                <a:cubicBezTo>
                  <a:pt x="58" y="40"/>
                  <a:pt x="0" y="203"/>
                  <a:pt x="253" y="243"/>
                </a:cubicBezTo>
                <a:cubicBezTo>
                  <a:pt x="506" y="283"/>
                  <a:pt x="1293" y="282"/>
                  <a:pt x="1540" y="243"/>
                </a:cubicBezTo>
                <a:cubicBezTo>
                  <a:pt x="1787" y="204"/>
                  <a:pt x="1697" y="58"/>
                  <a:pt x="1738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29120" y="61009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687C-7F4A-402A-84AD-2070A8E474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PA Extensions to GQAM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&lt;&lt;Step&gt;&gt; is extended for additional propertie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Step may include three kinds of invoked behaviour, with invocation count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n operation by a Component, called a ServiceDemand for a Requested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n operation by another Scenario defined separately, called a BehaviourDem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n operation defined outside the UML specification, called an ExternalOperation (this has to be understood by the analysis environment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s supports modular specification, and complex services defined in other ways (e.g. not in UML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new &lt;&lt;ResourcePass&gt;&gt; Step subtype is added, to show a logical resource is passed to another process (e.g., passing a buffe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new &lt;&lt;RunTInstance&gt;&gt; resource type is added to explicitly and compactly identify a lifeline or swimlane with a deployed process instance (without explicit allocation submodel) (usability issue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CE1A-622D-4B8B-8491-F75A70CEB0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Treatment of Communication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message on a UML diagram is conveyed by some mechanis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runtime (between objects in  Java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middleware (e.g. CORBA, or a J2EE app server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OS (e.g., by a pip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protocol layer (TCP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 usability, it may or may not be desirable to show the mechanism explicitly in the UM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rhaps, just indicate what is us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r just annotate the total assumed overhead costs, to approximate the cos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munications is modeled by a CommSte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DB64-D8FC-410C-BC3A-2E676E01D2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6640" y="646200"/>
            <a:ext cx="90932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Support for Approximation/Abstraction: Communication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ve levels of abstra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ssage between objects: no special cos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tween nodes via OS: overhead/Byte on deploym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R external operation (externalOpDemands) with more detai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y middleware defined by a StructuredClass (component model), with its own behaviour (servDemand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y an arbitrary protocol with a separately defined behaviour (behaviorDemand, specifying a Scenari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0A1F-D2AC-4D97-80DB-D0ADE947ED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3859200" y="263520"/>
            <a:ext cx="3420720" cy="2376360"/>
            <a:chOff x="3859200" y="263520"/>
            <a:chExt cx="3420720" cy="2376360"/>
          </a:xfrm>
        </p:grpSpPr>
        <p:sp>
          <p:nvSpPr>
            <p:cNvPr id="199" name=""/>
            <p:cNvSpPr/>
            <p:nvPr/>
          </p:nvSpPr>
          <p:spPr>
            <a:xfrm>
              <a:off x="4449600" y="263520"/>
              <a:ext cx="2830320" cy="2376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37160" y="425520"/>
              <a:ext cx="1236600" cy="988920"/>
            </a:xfrm>
            <a:custGeom>
              <a:avLst/>
              <a:gdLst/>
              <a:ahLst/>
              <a:rect l="l" t="t" r="r" b="b"/>
              <a:pathLst>
                <a:path w="779" h="623">
                  <a:moveTo>
                    <a:pt x="0" y="108"/>
                  </a:moveTo>
                  <a:lnTo>
                    <a:pt x="135" y="0"/>
                  </a:lnTo>
                  <a:lnTo>
                    <a:pt x="779" y="0"/>
                  </a:lnTo>
                  <a:lnTo>
                    <a:pt x="779" y="514"/>
                  </a:lnTo>
                  <a:lnTo>
                    <a:pt x="671" y="623"/>
                  </a:lnTo>
                  <a:lnTo>
                    <a:pt x="0" y="62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37160" y="425520"/>
              <a:ext cx="1236600" cy="988920"/>
            </a:xfrm>
            <a:custGeom>
              <a:avLst/>
              <a:gdLst/>
              <a:ahLst/>
              <a:rect l="l" t="t" r="r" b="b"/>
              <a:pathLst>
                <a:path w="779" h="623">
                  <a:moveTo>
                    <a:pt x="0" y="108"/>
                  </a:moveTo>
                  <a:lnTo>
                    <a:pt x="135" y="0"/>
                  </a:lnTo>
                  <a:lnTo>
                    <a:pt x="779" y="0"/>
                  </a:lnTo>
                  <a:lnTo>
                    <a:pt x="779" y="514"/>
                  </a:lnTo>
                  <a:lnTo>
                    <a:pt x="671" y="623"/>
                  </a:lnTo>
                  <a:lnTo>
                    <a:pt x="0" y="623"/>
                  </a:lnTo>
                  <a:lnTo>
                    <a:pt x="0" y="10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537160" y="425520"/>
              <a:ext cx="214200" cy="1713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602400" y="425520"/>
              <a:ext cx="171360" cy="1713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51360" y="425520"/>
              <a:ext cx="1022400" cy="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602400" y="1240920"/>
              <a:ext cx="171360" cy="1731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73760" y="425520"/>
              <a:ext cx="0" cy="8157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7160" y="596880"/>
              <a:ext cx="1076040" cy="8287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37160" y="596880"/>
              <a:ext cx="1065240" cy="817560"/>
            </a:xfrm>
            <a:prstGeom prst="rect">
              <a:avLst/>
            </a:prstGeom>
            <a:noFill/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32760" y="619200"/>
              <a:ext cx="1433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&lt;PcommHost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7920" y="79056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87400" y="1004760"/>
              <a:ext cx="144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{blockT = 10, u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27120" y="1177920"/>
              <a:ext cx="189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pacity = 100, Mb/s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557600" y="1704960"/>
              <a:ext cx="214200" cy="1713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246640" y="1704960"/>
              <a:ext cx="171360" cy="1713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71800" y="1704960"/>
              <a:ext cx="646200" cy="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246640" y="2391840"/>
              <a:ext cx="171360" cy="1731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18000" y="1704960"/>
              <a:ext cx="0" cy="6872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57600" y="1876320"/>
              <a:ext cx="689040" cy="689040"/>
            </a:xfrm>
            <a:prstGeom prst="rect">
              <a:avLst/>
            </a:prstGeom>
            <a:noFill/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42480" y="189864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&lt;Phost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59200" y="2070000"/>
              <a:ext cx="16192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commTxOvh = (2, us)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289560" y="1704960"/>
              <a:ext cx="216000" cy="1713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978600" y="1704960"/>
              <a:ext cx="172800" cy="1713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05560" y="1704960"/>
              <a:ext cx="645840" cy="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978600" y="2391840"/>
              <a:ext cx="172800" cy="1731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51400" y="1704960"/>
              <a:ext cx="0" cy="6872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89560" y="1876320"/>
              <a:ext cx="689040" cy="689040"/>
            </a:xfrm>
            <a:prstGeom prst="rect">
              <a:avLst/>
            </a:prstGeom>
            <a:noFill/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75880" y="189864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&lt;Phost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80640" y="207000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B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5880" y="1414440"/>
              <a:ext cx="0" cy="428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1457280"/>
              <a:ext cx="677880" cy="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73760" y="1457280"/>
              <a:ext cx="0" cy="247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76840" y="1414440"/>
              <a:ext cx="0" cy="428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095800" y="1457280"/>
              <a:ext cx="581040" cy="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95800" y="1457280"/>
              <a:ext cx="0" cy="247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1"/>
          <a:srcRect l="0" t="0" r="15308" b="0"/>
          <a:stretch/>
        </p:blipFill>
        <p:spPr>
          <a:xfrm>
            <a:off x="3811680" y="3513240"/>
            <a:ext cx="5332320" cy="33447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47200" y="6528960"/>
            <a:ext cx="85964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57320"/>
            <a:ext cx="3441600" cy="580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03360" y="1239840"/>
            <a:ext cx="3756960" cy="5618160"/>
            <a:chOff x="603360" y="1239840"/>
            <a:chExt cx="3756960" cy="5618160"/>
          </a:xfrm>
        </p:grpSpPr>
        <p:sp>
          <p:nvSpPr>
            <p:cNvPr id="239" name=""/>
            <p:cNvSpPr/>
            <p:nvPr/>
          </p:nvSpPr>
          <p:spPr>
            <a:xfrm>
              <a:off x="2894040" y="1239840"/>
              <a:ext cx="896760" cy="27792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94040" y="1239840"/>
              <a:ext cx="884160" cy="26676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08520" y="1263600"/>
              <a:ext cx="75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30720" y="1506600"/>
              <a:ext cx="1440" cy="5351400"/>
            </a:xfrm>
            <a:prstGeom prst="line">
              <a:avLst/>
            </a:prstGeom>
            <a:ln w="1260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0240" y="2003400"/>
              <a:ext cx="133200" cy="59544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0240" y="2003400"/>
              <a:ext cx="120600" cy="58248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70240" y="2986200"/>
              <a:ext cx="133200" cy="83808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70240" y="2986200"/>
              <a:ext cx="120600" cy="82548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70240" y="4284720"/>
              <a:ext cx="133200" cy="71604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70240" y="4284720"/>
              <a:ext cx="120600" cy="70488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70240" y="5402160"/>
              <a:ext cx="133200" cy="71604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0240" y="5402160"/>
              <a:ext cx="120600" cy="70344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3360" y="1239840"/>
              <a:ext cx="896760" cy="27792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3360" y="1239840"/>
              <a:ext cx="885600" cy="26676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3320" y="1263600"/>
              <a:ext cx="861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39680" y="1506600"/>
              <a:ext cx="1800" cy="5351400"/>
            </a:xfrm>
            <a:prstGeom prst="line">
              <a:avLst/>
            </a:prstGeom>
            <a:ln w="1260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79560" y="2003400"/>
              <a:ext cx="133200" cy="472140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9560" y="2003400"/>
              <a:ext cx="120600" cy="470844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60360" y="5413320"/>
              <a:ext cx="130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&lt;&lt;PcommStep&gt;&gt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86280" y="5572080"/>
              <a:ext cx="1488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sgSize = (4.5, KB)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91240" y="5742000"/>
              <a:ext cx="3169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havDemand = parallelRe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havCount=1}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46040" y="3035160"/>
              <a:ext cx="130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&lt;&lt;PcommStep&gt;&gt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68720" y="3192480"/>
              <a:ext cx="155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{msgSize = (4.5, KB)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66120" y="3362400"/>
              <a:ext cx="2719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xtOpDemand = networ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xtOpCount = 1}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46040" y="4309920"/>
              <a:ext cx="130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&lt;&lt;PcommStep&gt;&gt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8720" y="4467240"/>
              <a:ext cx="155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{msgSize = (4.5, KB)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09320" y="4637160"/>
              <a:ext cx="2815560" cy="5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rvDemand = conveyMs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rvCount = 1}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30280" y="2016000"/>
              <a:ext cx="130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&lt;&lt;PcommStep&gt;&gt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8280" y="2173320"/>
              <a:ext cx="156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{msgSize = (4.5, KB)}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0160" y="2585880"/>
              <a:ext cx="2170080" cy="1800"/>
            </a:xfrm>
            <a:prstGeom prst="line">
              <a:avLst/>
            </a:prstGeom>
            <a:ln w="1260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00160" y="2585880"/>
              <a:ext cx="85680" cy="367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100160" y="254916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64800" y="242892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00160" y="3811680"/>
              <a:ext cx="2170080" cy="1440"/>
            </a:xfrm>
            <a:prstGeom prst="line">
              <a:avLst/>
            </a:prstGeom>
            <a:ln w="1260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00160" y="381168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100160" y="3774960"/>
              <a:ext cx="85680" cy="367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4800" y="365436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00160" y="4989600"/>
              <a:ext cx="2170080" cy="1440"/>
            </a:xfrm>
            <a:prstGeom prst="line">
              <a:avLst/>
            </a:prstGeom>
            <a:ln w="1260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00160" y="498960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100160" y="4952880"/>
              <a:ext cx="85680" cy="367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77400" y="487980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00160" y="6105600"/>
              <a:ext cx="2170080" cy="1440"/>
            </a:xfrm>
            <a:prstGeom prst="line">
              <a:avLst/>
            </a:prstGeom>
            <a:ln w="1260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00160" y="610560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100160" y="6068880"/>
              <a:ext cx="85680" cy="367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64800" y="594828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100160" y="2003400"/>
              <a:ext cx="217008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3184560" y="196668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184560" y="200340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84560" y="196704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4" y="23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84560" y="196704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4" y="23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84560" y="200340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84560" y="200340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03400" y="1846440"/>
              <a:ext cx="98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53640" y="184644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00160" y="2986200"/>
              <a:ext cx="217008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184560" y="2950920"/>
              <a:ext cx="85680" cy="349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184560" y="298620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84560" y="2951280"/>
              <a:ext cx="85680" cy="3492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84560" y="2951280"/>
              <a:ext cx="85680" cy="3492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54" y="22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84560" y="298620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84560" y="298620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03400" y="2828880"/>
              <a:ext cx="98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53640" y="282888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100160" y="4284720"/>
              <a:ext cx="217008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3184560" y="4248000"/>
              <a:ext cx="85680" cy="367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184560" y="428472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84560" y="4248000"/>
              <a:ext cx="85680" cy="367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4" y="23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84560" y="4248000"/>
              <a:ext cx="85680" cy="367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4" y="23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84560" y="428472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84560" y="428472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03400" y="4127400"/>
              <a:ext cx="98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53640" y="412740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100160" y="5402160"/>
              <a:ext cx="2170080" cy="18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3184560" y="536544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84560" y="5402160"/>
              <a:ext cx="85680" cy="367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84560" y="536580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4" y="23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84560" y="536580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4" y="23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84560" y="5402160"/>
              <a:ext cx="85680" cy="367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84560" y="5402160"/>
              <a:ext cx="85680" cy="367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53640" y="524340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74840" y="646200"/>
            <a:ext cx="5099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Unicode MS"/>
              </a:rPr>
              <a:t>Communications examples</a:t>
            </a: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641760" y="5470200"/>
            <a:ext cx="763560" cy="9828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527280" y="1349280"/>
            <a:ext cx="1893960" cy="79704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514680" y="2499840"/>
            <a:ext cx="4272120" cy="20113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298000">
            <a:off x="3563640" y="14713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553160" y="1387440"/>
            <a:ext cx="1590840" cy="1324080"/>
            <a:chOff x="7553160" y="1387440"/>
            <a:chExt cx="1590840" cy="1324080"/>
          </a:xfrm>
        </p:grpSpPr>
        <p:sp>
          <p:nvSpPr>
            <p:cNvPr id="325" name=""/>
            <p:cNvSpPr/>
            <p:nvPr/>
          </p:nvSpPr>
          <p:spPr>
            <a:xfrm>
              <a:off x="7553160" y="1387440"/>
              <a:ext cx="1590840" cy="13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48560" y="1528920"/>
              <a:ext cx="1390680" cy="112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8560" y="1528920"/>
              <a:ext cx="1381320" cy="1116000"/>
            </a:xfrm>
            <a:prstGeom prst="rect">
              <a:avLst/>
            </a:prstGeom>
            <a:noFill/>
            <a:ln w="93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5160" y="15476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ddle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48560" y="1736640"/>
              <a:ext cx="1381320" cy="0"/>
            </a:xfrm>
            <a:prstGeom prst="line">
              <a:avLst/>
            </a:prstGeom>
            <a:ln w="93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48560" y="1822320"/>
              <a:ext cx="1381320" cy="0"/>
            </a:xfrm>
            <a:prstGeom prst="line">
              <a:avLst/>
            </a:prstGeom>
            <a:ln w="93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9720" y="1841400"/>
              <a:ext cx="14486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28"/>
                  </a:solidFill>
                  <a:latin typeface="Arial"/>
                </a:rPr>
                <a:t>&lt;&lt;Pservice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28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000028"/>
                  </a:solidFill>
                  <a:latin typeface="Arial"/>
                </a:rPr>
                <a:t>conveyMsg</a:t>
              </a:r>
              <a:r>
                <a:rPr b="0" lang="en-US" sz="1600" spc="-1" strike="noStrike">
                  <a:solidFill>
                    <a:srgbClr val="000028"/>
                  </a:solidFill>
                  <a:latin typeface="Arial"/>
                </a:rPr>
                <a:t>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7B46-01AF-4B53-B8D0-1783299F04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82760" y="1057320"/>
            <a:ext cx="3441600" cy="580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Unicode MS"/>
              </a:rPr>
              <a:t>Communications example: default</a:t>
            </a: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33440" y="1660680"/>
            <a:ext cx="5582880" cy="6793920"/>
            <a:chOff x="433440" y="1660680"/>
            <a:chExt cx="5582880" cy="6793920"/>
          </a:xfrm>
        </p:grpSpPr>
        <p:grpSp>
          <p:nvGrpSpPr>
            <p:cNvPr id="335" name=""/>
            <p:cNvGrpSpPr/>
            <p:nvPr/>
          </p:nvGrpSpPr>
          <p:grpSpPr>
            <a:xfrm>
              <a:off x="686880" y="1660680"/>
              <a:ext cx="4316400" cy="6793560"/>
              <a:chOff x="686880" y="1660680"/>
              <a:chExt cx="4316400" cy="6793560"/>
            </a:xfrm>
          </p:grpSpPr>
          <p:sp>
            <p:nvSpPr>
              <p:cNvPr id="336" name=""/>
              <p:cNvSpPr/>
              <p:nvPr/>
            </p:nvSpPr>
            <p:spPr>
              <a:xfrm>
                <a:off x="3789000" y="1660680"/>
                <a:ext cx="1214280" cy="33588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89000" y="1660680"/>
                <a:ext cx="1197000" cy="32256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51360" y="1689120"/>
                <a:ext cx="75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bas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380120" y="1983240"/>
                <a:ext cx="1800" cy="647100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98400" y="2583720"/>
                <a:ext cx="180360" cy="72000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298400" y="2583720"/>
                <a:ext cx="163080" cy="70416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98400" y="3772440"/>
                <a:ext cx="180360" cy="101340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298400" y="3772440"/>
                <a:ext cx="163080" cy="99792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98400" y="5342760"/>
                <a:ext cx="180360" cy="86580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298400" y="5342760"/>
                <a:ext cx="163080" cy="85212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298400" y="6693840"/>
                <a:ext cx="180360" cy="86580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298400" y="6693840"/>
                <a:ext cx="163080" cy="85032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86880" y="1660680"/>
                <a:ext cx="1214280" cy="33588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86880" y="1660680"/>
                <a:ext cx="1199160" cy="32256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8080" y="1689120"/>
                <a:ext cx="861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webserv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277640" y="1983240"/>
                <a:ext cx="2160" cy="647100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96280" y="2583720"/>
                <a:ext cx="180360" cy="570924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196280" y="2583720"/>
                <a:ext cx="163080" cy="56934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580040" y="670752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6320" y="6899400"/>
                <a:ext cx="148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42240" y="7104960"/>
                <a:ext cx="337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onveyScenario = parallelRead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95960" y="383148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17920" y="4021920"/>
                <a:ext cx="155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648800" y="4227120"/>
                <a:ext cx="235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extService = network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95960" y="537300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17920" y="5563440"/>
                <a:ext cx="155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84800" y="5768640"/>
                <a:ext cx="306864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onveyService = conveyMsg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816200" y="2599200"/>
                <a:ext cx="1424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a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28440" y="2789280"/>
                <a:ext cx="1568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}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59720" y="3288240"/>
                <a:ext cx="2938320" cy="216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59720" y="3288240"/>
                <a:ext cx="115920" cy="442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359720" y="324432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394720" y="309852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59720" y="4770720"/>
                <a:ext cx="293832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59720" y="477072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359720" y="4725720"/>
                <a:ext cx="115920" cy="442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394720" y="458028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59720" y="6194880"/>
                <a:ext cx="293832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59720" y="619488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1359720" y="6150240"/>
                <a:ext cx="115920" cy="442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412000" y="606204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6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359720" y="7544520"/>
                <a:ext cx="293832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359720" y="754452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1359720" y="7499880"/>
                <a:ext cx="115920" cy="442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394720" y="735408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8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1359720" y="2583720"/>
                <a:ext cx="293832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flipV="1">
                <a:off x="4182120" y="253980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4182120" y="258372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82120" y="253980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182120" y="253980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82120" y="258372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82120" y="258372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580840" y="239400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379600" y="239400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1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1359720" y="3772440"/>
                <a:ext cx="293832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4182120" y="3729600"/>
                <a:ext cx="115920" cy="421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182120" y="377244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182120" y="3729960"/>
                <a:ext cx="115920" cy="421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182120" y="3729960"/>
                <a:ext cx="115920" cy="421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4" y="22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182120" y="377244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182120" y="377244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580840" y="358200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79600" y="358200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1359720" y="5342760"/>
                <a:ext cx="293832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4182120" y="5297760"/>
                <a:ext cx="115920" cy="442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4182120" y="534276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82120" y="529812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120" y="529812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82120" y="534276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182120" y="534276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80840" y="515232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79600" y="515232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5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1359720" y="6693840"/>
                <a:ext cx="2938320" cy="216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4182120" y="664992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4182120" y="6693840"/>
                <a:ext cx="115920" cy="442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82120" y="664992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182120" y="664992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182120" y="66938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82120" y="66938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79600" y="65019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7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433440" y="3578400"/>
              <a:ext cx="5582880" cy="48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7200" y="4808160"/>
            <a:ext cx="8596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performance model uses the LAN characteristics to create a server submodel,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d the Hosts have overhead CPU demand parameters (not shown) which are added to the workloads at sender and receiv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737240" y="1386000"/>
            <a:ext cx="4406760" cy="3351240"/>
            <a:chOff x="4737240" y="1386000"/>
            <a:chExt cx="4406760" cy="3351240"/>
          </a:xfrm>
        </p:grpSpPr>
        <p:sp>
          <p:nvSpPr>
            <p:cNvPr id="419" name=""/>
            <p:cNvSpPr/>
            <p:nvPr/>
          </p:nvSpPr>
          <p:spPr>
            <a:xfrm>
              <a:off x="5153040" y="1386000"/>
              <a:ext cx="3990960" cy="3351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84840" y="1612800"/>
              <a:ext cx="1746360" cy="1395720"/>
            </a:xfrm>
            <a:custGeom>
              <a:avLst/>
              <a:gdLst/>
              <a:ahLst/>
              <a:rect l="l" t="t" r="r" b="b"/>
              <a:pathLst>
                <a:path w="1100" h="879">
                  <a:moveTo>
                    <a:pt x="0" y="153"/>
                  </a:moveTo>
                  <a:lnTo>
                    <a:pt x="192" y="0"/>
                  </a:lnTo>
                  <a:lnTo>
                    <a:pt x="1100" y="0"/>
                  </a:lnTo>
                  <a:lnTo>
                    <a:pt x="1100" y="726"/>
                  </a:lnTo>
                  <a:lnTo>
                    <a:pt x="947" y="879"/>
                  </a:lnTo>
                  <a:lnTo>
                    <a:pt x="0" y="879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84840" y="1612800"/>
              <a:ext cx="1746360" cy="1395720"/>
            </a:xfrm>
            <a:custGeom>
              <a:avLst/>
              <a:gdLst/>
              <a:ahLst/>
              <a:rect l="l" t="t" r="r" b="b"/>
              <a:pathLst>
                <a:path w="1100" h="879">
                  <a:moveTo>
                    <a:pt x="0" y="153"/>
                  </a:moveTo>
                  <a:lnTo>
                    <a:pt x="192" y="0"/>
                  </a:lnTo>
                  <a:lnTo>
                    <a:pt x="1100" y="0"/>
                  </a:lnTo>
                  <a:lnTo>
                    <a:pt x="1100" y="726"/>
                  </a:lnTo>
                  <a:lnTo>
                    <a:pt x="947" y="879"/>
                  </a:lnTo>
                  <a:lnTo>
                    <a:pt x="0" y="879"/>
                  </a:lnTo>
                  <a:lnTo>
                    <a:pt x="0" y="153"/>
                  </a:lnTo>
                </a:path>
              </a:pathLst>
            </a:cu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684840" y="1612440"/>
              <a:ext cx="30492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8188200" y="1612440"/>
              <a:ext cx="24300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89760" y="1612800"/>
              <a:ext cx="1441440" cy="18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8188200" y="2765160"/>
              <a:ext cx="24300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31200" y="1612800"/>
              <a:ext cx="1440" cy="115272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84840" y="1855800"/>
              <a:ext cx="1517760" cy="1168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84840" y="1855800"/>
              <a:ext cx="1503360" cy="1152720"/>
            </a:xfrm>
            <a:prstGeom prst="rect">
              <a:avLst/>
            </a:prstGeom>
            <a:noFill/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96800" y="1886040"/>
              <a:ext cx="19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&lt;GaCommHost&gt;&gt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32400" y="2129040"/>
              <a:ext cx="497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75840" y="2432160"/>
              <a:ext cx="186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blockT = (10, us)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47400" y="2674800"/>
              <a:ext cx="240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pacity = (100, Mb/s)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305320" y="3417480"/>
              <a:ext cx="30348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275520" y="3417480"/>
              <a:ext cx="24264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08800" y="3417840"/>
              <a:ext cx="909360" cy="18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275520" y="4388040"/>
              <a:ext cx="242640" cy="24264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18160" y="3417840"/>
              <a:ext cx="1800" cy="9702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05320" y="3660840"/>
              <a:ext cx="970200" cy="969840"/>
            </a:xfrm>
            <a:prstGeom prst="rect">
              <a:avLst/>
            </a:prstGeom>
            <a:noFill/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87760" y="3691080"/>
              <a:ext cx="1072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&lt;Phost&gt;&gt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37240" y="3933720"/>
              <a:ext cx="2295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ppHo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{commTxOvh = (2, us)}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748640" y="3417480"/>
              <a:ext cx="30312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8718480" y="3417480"/>
              <a:ext cx="24300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51760" y="3417840"/>
              <a:ext cx="909720" cy="18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8718480" y="4388040"/>
              <a:ext cx="243000" cy="24264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961480" y="3417840"/>
              <a:ext cx="1440" cy="9702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48640" y="3660840"/>
              <a:ext cx="969840" cy="969840"/>
            </a:xfrm>
            <a:prstGeom prst="rect">
              <a:avLst/>
            </a:prstGeom>
            <a:noFill/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31080" y="3691080"/>
              <a:ext cx="1072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&lt;Phost&gt;&gt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78240" y="3933720"/>
              <a:ext cx="87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Bho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75400" y="3008520"/>
              <a:ext cx="1800" cy="6012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75400" y="3068640"/>
              <a:ext cx="955800" cy="18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31200" y="3068640"/>
              <a:ext cx="1440" cy="3492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83560" y="3008520"/>
              <a:ext cx="1440" cy="6012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064200" y="3068640"/>
              <a:ext cx="819360" cy="18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64200" y="3068640"/>
              <a:ext cx="1800" cy="3492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 flipV="1">
            <a:off x="4673520" y="2927160"/>
            <a:ext cx="763560" cy="9828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F1A6-4950-41C0-BA5C-671C1DD001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82760" y="1057320"/>
            <a:ext cx="3441600" cy="580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Unicode MS"/>
              </a:rPr>
              <a:t>Communications example: External submodel</a:t>
            </a: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81120" y="1654200"/>
            <a:ext cx="5400360" cy="6600600"/>
            <a:chOff x="681120" y="1654200"/>
            <a:chExt cx="5400360" cy="6600600"/>
          </a:xfrm>
        </p:grpSpPr>
        <p:grpSp>
          <p:nvGrpSpPr>
            <p:cNvPr id="459" name=""/>
            <p:cNvGrpSpPr/>
            <p:nvPr/>
          </p:nvGrpSpPr>
          <p:grpSpPr>
            <a:xfrm>
              <a:off x="681120" y="1654200"/>
              <a:ext cx="4374000" cy="6600240"/>
              <a:chOff x="681120" y="1654200"/>
              <a:chExt cx="4374000" cy="6600240"/>
            </a:xfrm>
          </p:grpSpPr>
          <p:sp>
            <p:nvSpPr>
              <p:cNvPr id="460" name=""/>
              <p:cNvSpPr/>
              <p:nvPr/>
            </p:nvSpPr>
            <p:spPr>
              <a:xfrm>
                <a:off x="3824640" y="1654200"/>
                <a:ext cx="1230480" cy="32616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24640" y="1654200"/>
                <a:ext cx="1213200" cy="3132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988800" y="1682280"/>
                <a:ext cx="75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bas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423680" y="1967760"/>
                <a:ext cx="1800" cy="6286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40880" y="2551320"/>
                <a:ext cx="182520" cy="69948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340880" y="2551320"/>
                <a:ext cx="165240" cy="6840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340880" y="3705840"/>
                <a:ext cx="182520" cy="98424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340880" y="3705840"/>
                <a:ext cx="165240" cy="96948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340880" y="5231520"/>
                <a:ext cx="182520" cy="84096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340880" y="5231520"/>
                <a:ext cx="165240" cy="8280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40880" y="6544080"/>
                <a:ext cx="182520" cy="84096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340880" y="6544080"/>
                <a:ext cx="165240" cy="8262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1120" y="1654200"/>
                <a:ext cx="1230480" cy="32616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1120" y="1654200"/>
                <a:ext cx="1215000" cy="3132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3400" y="1682280"/>
                <a:ext cx="861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webserv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279800" y="1967760"/>
                <a:ext cx="2160" cy="6286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197360" y="2551320"/>
                <a:ext cx="182520" cy="554652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97360" y="2551320"/>
                <a:ext cx="165240" cy="55314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586520" y="655740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612080" y="6743880"/>
                <a:ext cx="148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548720" y="6943320"/>
                <a:ext cx="337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onveyScenario = parallelRead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703880" y="376344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726920" y="3948120"/>
                <a:ext cx="155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56360" y="4147920"/>
                <a:ext cx="235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extService = network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703880" y="526104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726920" y="5445720"/>
                <a:ext cx="155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692000" y="5645520"/>
                <a:ext cx="306864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onveyService = conveyMsg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819440" y="256608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2750760"/>
                <a:ext cx="1568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}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62960" y="3235680"/>
                <a:ext cx="2977560" cy="180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62960" y="3235680"/>
                <a:ext cx="117360" cy="428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1362960" y="319284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412000" y="30513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62960" y="4675680"/>
                <a:ext cx="297756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62960" y="467568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1362960" y="4632120"/>
                <a:ext cx="117360" cy="428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12000" y="449100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62960" y="6059520"/>
                <a:ext cx="297756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62960" y="605952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1362960" y="6015960"/>
                <a:ext cx="117360" cy="428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429280" y="593064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6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62960" y="7370640"/>
                <a:ext cx="297756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62960" y="737064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1362960" y="7327080"/>
                <a:ext cx="117360" cy="428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412000" y="71859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8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1362600" y="2551320"/>
                <a:ext cx="297756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4223160" y="250848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4223160" y="255132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223160" y="250848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223160" y="250848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23160" y="255132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223160" y="255132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599560" y="236700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395800" y="236700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1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1362600" y="3705840"/>
                <a:ext cx="297756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flipV="1">
                <a:off x="4223160" y="3664440"/>
                <a:ext cx="1173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4223160" y="370584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223160" y="3664800"/>
                <a:ext cx="117360" cy="4068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223160" y="3664800"/>
                <a:ext cx="117360" cy="4068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4" y="22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223160" y="370584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23160" y="370584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599560" y="352116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95800" y="35211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1362600" y="5231520"/>
                <a:ext cx="297756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 flipV="1">
                <a:off x="4223160" y="5187960"/>
                <a:ext cx="117360" cy="428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4223160" y="523152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23160" y="5188320"/>
                <a:ext cx="117360" cy="428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223160" y="5188320"/>
                <a:ext cx="117360" cy="428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223160" y="523152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23160" y="523152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99560" y="504648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395800" y="504648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5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1362600" y="6544080"/>
                <a:ext cx="2977560" cy="180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>
                <a:off x="4223160" y="650160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4223160" y="6544080"/>
                <a:ext cx="117360" cy="428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223160" y="650160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223160" y="650160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23160" y="6544080"/>
                <a:ext cx="117360" cy="428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223160" y="6544080"/>
                <a:ext cx="117360" cy="428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395800" y="635760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7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1016640" y="4962960"/>
              <a:ext cx="5064840" cy="32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V="1">
            <a:off x="4673520" y="3276720"/>
            <a:ext cx="879480" cy="84600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435280" y="1692000"/>
            <a:ext cx="370836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etwork” identifies a network submodel to the modeling tool, which inserts it into the final performance model, using the message siz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st overhead parameters are still used,governed by message siz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487F-2F98-4DD3-9432-BD9217A3FD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641840" y="2855520"/>
            <a:ext cx="4502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ddleware” can be a structured class defining a subsyste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veyMsg is an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operatio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of that clas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PaRequestedService stereotype inherits from Ste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t defines its own overheads or scenario, so default Host values of overhead are not us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4" name=""/>
          <p:cNvSpPr/>
          <p:nvPr/>
        </p:nvSpPr>
        <p:spPr>
          <a:xfrm>
            <a:off x="482760" y="1057320"/>
            <a:ext cx="3441600" cy="580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Unicode MS"/>
              </a:rPr>
              <a:t>Communications example: Middleware Service</a:t>
            </a: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789360" y="2270160"/>
            <a:ext cx="1281240" cy="23083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81600" y="1262520"/>
            <a:ext cx="4245840" cy="6319080"/>
            <a:chOff x="381600" y="1262520"/>
            <a:chExt cx="4245840" cy="6319080"/>
          </a:xfrm>
        </p:grpSpPr>
        <p:grpSp>
          <p:nvGrpSpPr>
            <p:cNvPr id="548" name=""/>
            <p:cNvGrpSpPr/>
            <p:nvPr/>
          </p:nvGrpSpPr>
          <p:grpSpPr>
            <a:xfrm>
              <a:off x="381600" y="1262520"/>
              <a:ext cx="4129200" cy="6319080"/>
              <a:chOff x="381600" y="1262520"/>
              <a:chExt cx="4129200" cy="6319080"/>
            </a:xfrm>
          </p:grpSpPr>
          <p:sp>
            <p:nvSpPr>
              <p:cNvPr id="549" name=""/>
              <p:cNvSpPr/>
              <p:nvPr/>
            </p:nvSpPr>
            <p:spPr>
              <a:xfrm>
                <a:off x="3140640" y="1262520"/>
                <a:ext cx="1080000" cy="31248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40640" y="1262520"/>
                <a:ext cx="1064880" cy="29988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282480" y="1289160"/>
                <a:ext cx="75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bas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666600" y="1562400"/>
                <a:ext cx="1440" cy="601920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93880" y="2121120"/>
                <a:ext cx="160200" cy="66960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93880" y="2121120"/>
                <a:ext cx="145080" cy="65484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593880" y="3226680"/>
                <a:ext cx="160200" cy="94248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93880" y="3226680"/>
                <a:ext cx="145080" cy="92844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93880" y="4687200"/>
                <a:ext cx="160200" cy="80532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593880" y="4687200"/>
                <a:ext cx="145080" cy="79272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593880" y="5944320"/>
                <a:ext cx="160200" cy="80532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593880" y="5944320"/>
                <a:ext cx="145080" cy="79092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81600" y="1262520"/>
                <a:ext cx="1080000" cy="31248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1600" y="1262520"/>
                <a:ext cx="1066680" cy="29988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34160" y="1289160"/>
                <a:ext cx="861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webserv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907200" y="1562400"/>
                <a:ext cx="2160" cy="601920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34840" y="2121120"/>
                <a:ext cx="160200" cy="531036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34840" y="2121120"/>
                <a:ext cx="145080" cy="529596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174680" y="595692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200600" y="6135480"/>
                <a:ext cx="148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137600" y="6326640"/>
                <a:ext cx="337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onveyScenario = parallelRead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277640" y="328176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00320" y="3458880"/>
                <a:ext cx="155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30120" y="3650040"/>
                <a:ext cx="235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extService = network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77640" y="471564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00320" y="4892760"/>
                <a:ext cx="155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66840" y="5083560"/>
                <a:ext cx="306864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onveyService = conveyMsg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9160" y="213552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97160" y="2312280"/>
                <a:ext cx="1568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}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79920" y="2776320"/>
                <a:ext cx="2613600" cy="180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79920" y="2776320"/>
                <a:ext cx="102960" cy="410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979920" y="273528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901160" y="259992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79920" y="4155120"/>
                <a:ext cx="261360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79920" y="415512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979920" y="4114080"/>
                <a:ext cx="102960" cy="410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01160" y="39783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979920" y="5480280"/>
                <a:ext cx="261360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979920" y="548028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979920" y="5438880"/>
                <a:ext cx="102960" cy="410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15560" y="535680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6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979920" y="6735600"/>
                <a:ext cx="261360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979920" y="673560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979920" y="6694200"/>
                <a:ext cx="102960" cy="410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901160" y="655848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8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979920" y="2121120"/>
                <a:ext cx="261360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>
                <a:off x="3490560" y="208008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3490560" y="212112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490560" y="208044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490560" y="208044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490560" y="212112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90560" y="212112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66400" y="194472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886760" y="194472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1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979920" y="3226680"/>
                <a:ext cx="261360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 flipV="1">
                <a:off x="3490560" y="3187080"/>
                <a:ext cx="102960" cy="392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490560" y="322668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490560" y="3187440"/>
                <a:ext cx="102960" cy="3924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490560" y="3187440"/>
                <a:ext cx="102960" cy="3924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4" y="22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490560" y="322668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490560" y="322668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066400" y="304992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86760" y="304992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979920" y="4687200"/>
                <a:ext cx="261360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>
                <a:off x="3490560" y="4646160"/>
                <a:ext cx="102960" cy="410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490560" y="468720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490560" y="4646160"/>
                <a:ext cx="102960" cy="410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490560" y="4646160"/>
                <a:ext cx="102960" cy="410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490560" y="468720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90560" y="468720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66400" y="451044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86760" y="451044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5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979920" y="5944320"/>
                <a:ext cx="2613600" cy="180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3490560" y="590292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3490560" y="5944320"/>
                <a:ext cx="102960" cy="410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490560" y="590328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490560" y="590328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90560" y="5944320"/>
                <a:ext cx="102960" cy="410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90560" y="5944320"/>
                <a:ext cx="102960" cy="410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886760" y="57657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7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603000" y="5678640"/>
              <a:ext cx="402444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052960" y="1353960"/>
            <a:ext cx="2152440" cy="1324080"/>
            <a:chOff x="5052960" y="1353960"/>
            <a:chExt cx="2152440" cy="1324080"/>
          </a:xfrm>
        </p:grpSpPr>
        <p:sp>
          <p:nvSpPr>
            <p:cNvPr id="631" name=""/>
            <p:cNvSpPr/>
            <p:nvPr/>
          </p:nvSpPr>
          <p:spPr>
            <a:xfrm>
              <a:off x="5392800" y="1353960"/>
              <a:ext cx="1590480" cy="13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87840" y="1495440"/>
              <a:ext cx="1390680" cy="112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87840" y="1495440"/>
              <a:ext cx="1381320" cy="1116000"/>
            </a:xfrm>
            <a:prstGeom prst="rect">
              <a:avLst/>
            </a:prstGeom>
            <a:noFill/>
            <a:ln w="93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54800" y="151452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ddle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87840" y="1703520"/>
              <a:ext cx="1381320" cy="0"/>
            </a:xfrm>
            <a:prstGeom prst="line">
              <a:avLst/>
            </a:prstGeom>
            <a:ln w="93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87840" y="1789200"/>
              <a:ext cx="1381320" cy="0"/>
            </a:xfrm>
            <a:prstGeom prst="line">
              <a:avLst/>
            </a:prstGeom>
            <a:ln w="93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52960" y="1808280"/>
              <a:ext cx="2152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28"/>
                  </a:solidFill>
                  <a:latin typeface="Arial"/>
                </a:rPr>
                <a:t>&lt;&lt;PaRequestService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28"/>
                  </a:solidFill>
                  <a:latin typeface="Arial"/>
                </a:rPr>
                <a:t>+conveyMsg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99C5-AAB5-4CC1-AFA5-BCF0F6D2E9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Concerns of Performance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47560" y="1382400"/>
            <a:ext cx="42213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chedulabil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omain: control, robotics, monitors and ala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afety critic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ehaviour can be made to be deterministic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quirements are to meet hard deadlin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100% of responses&lt;target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1200" y="1382400"/>
            <a:ext cx="42228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omain: service syste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est-effort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ser can wait safel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ehaviour is intrinsically non-deterministic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ecution demand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ta demand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asures and requirements are statistical, e.g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verage response&lt;targe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95% of responses&lt;targe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"/>
          <p:cNvSpPr/>
          <p:nvPr/>
        </p:nvSpPr>
        <p:spPr>
          <a:xfrm>
            <a:off x="658800" y="1747800"/>
            <a:ext cx="8190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195880"/>
            <a:ext cx="8190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92600" y="1438200"/>
            <a:ext cx="0" cy="504360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8530-0307-48B4-9F69-C3A48CF77C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1680" y="351000"/>
            <a:ext cx="85723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Unicode MS"/>
              </a:rPr>
              <a:t>Communications example: Scenario</a:t>
            </a: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639" name=""/>
          <p:cNvSpPr/>
          <p:nvPr/>
        </p:nvSpPr>
        <p:spPr>
          <a:xfrm>
            <a:off x="694440" y="173520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Demand = parallel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01760" y="839880"/>
            <a:ext cx="92599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30600" y="2432160"/>
            <a:ext cx="7672320" cy="264960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30600" y="2432160"/>
            <a:ext cx="436320" cy="252360"/>
          </a:xfrm>
          <a:custGeom>
            <a:avLst/>
            <a:gdLst/>
            <a:ahLst/>
            <a:rect l="l" t="t" r="r" b="b"/>
            <a:pathLst>
              <a:path w="275" h="159">
                <a:moveTo>
                  <a:pt x="275" y="0"/>
                </a:moveTo>
                <a:lnTo>
                  <a:pt x="275" y="129"/>
                </a:lnTo>
                <a:lnTo>
                  <a:pt x="250" y="159"/>
                </a:lnTo>
                <a:lnTo>
                  <a:pt x="0" y="159"/>
                </a:lnTo>
                <a:lnTo>
                  <a:pt x="0" y="0"/>
                </a:lnTo>
                <a:lnTo>
                  <a:pt x="275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827080" y="3078000"/>
            <a:ext cx="200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62360" y="3787920"/>
            <a:ext cx="7408800" cy="144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22040" y="2463840"/>
            <a:ext cx="36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14560" y="2384280"/>
            <a:ext cx="158760" cy="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07080" y="2400480"/>
            <a:ext cx="540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696520" y="2384280"/>
            <a:ext cx="158040" cy="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788320" y="2400480"/>
            <a:ext cx="540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54680" y="2384280"/>
            <a:ext cx="158040" cy="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46480" y="2400480"/>
            <a:ext cx="522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26080" y="2384280"/>
            <a:ext cx="158760" cy="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18240" y="2400480"/>
            <a:ext cx="540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104160" y="2384280"/>
            <a:ext cx="158040" cy="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95960" y="2400480"/>
            <a:ext cx="525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822400" y="1076400"/>
            <a:ext cx="912960" cy="36180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22400" y="1076400"/>
            <a:ext cx="900360" cy="34776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927520" y="1108080"/>
            <a:ext cx="939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ndM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273480" y="1424160"/>
            <a:ext cx="1440" cy="572292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06880" y="2179800"/>
            <a:ext cx="145800" cy="261756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206880" y="2179800"/>
            <a:ext cx="131760" cy="260172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97400" y="1076400"/>
            <a:ext cx="885960" cy="36180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97400" y="1076400"/>
            <a:ext cx="873000" cy="34776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21520" y="110808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cvMW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34080" y="1424160"/>
            <a:ext cx="1440" cy="572292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67120" y="2732040"/>
            <a:ext cx="146160" cy="64620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767120" y="2732040"/>
            <a:ext cx="133560" cy="63036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75520" y="1076400"/>
            <a:ext cx="766800" cy="36180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175520" y="1076400"/>
            <a:ext cx="754200" cy="34776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166520" y="110808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cvMW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545240" y="1424160"/>
            <a:ext cx="1800" cy="572292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78640" y="4071960"/>
            <a:ext cx="146160" cy="58428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478640" y="4071960"/>
            <a:ext cx="133560" cy="56844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433520" y="1076400"/>
            <a:ext cx="701640" cy="36180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33520" y="1076400"/>
            <a:ext cx="689040" cy="34776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90760" y="1108080"/>
            <a:ext cx="75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778040" y="1424160"/>
            <a:ext cx="1440" cy="572292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711440" y="2179800"/>
            <a:ext cx="145800" cy="340668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711440" y="2179800"/>
            <a:ext cx="133200" cy="339084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11440" y="5570640"/>
            <a:ext cx="133200" cy="1584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02400" y="1076400"/>
            <a:ext cx="1144440" cy="31428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705640" y="1076400"/>
            <a:ext cx="1147680" cy="29844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15080" y="1058760"/>
            <a:ext cx="104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ceiver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22960" y="1424160"/>
            <a:ext cx="1800" cy="572292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56360" y="2921040"/>
            <a:ext cx="146160" cy="28404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56360" y="2921040"/>
            <a:ext cx="131760" cy="26820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169120" y="1076400"/>
            <a:ext cx="924120" cy="34596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182080" y="1076400"/>
            <a:ext cx="961920" cy="34776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107560" y="1108080"/>
            <a:ext cx="104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ceiver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815320" y="1424160"/>
            <a:ext cx="1800" cy="572292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748720" y="4260960"/>
            <a:ext cx="146160" cy="25236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748720" y="4260960"/>
            <a:ext cx="133200" cy="23652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3338640" y="2732040"/>
            <a:ext cx="1428480" cy="180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674960" y="2684520"/>
            <a:ext cx="9180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674960" y="2732040"/>
            <a:ext cx="9180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75320" y="2684520"/>
            <a:ext cx="9180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675320" y="2684520"/>
            <a:ext cx="9180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75320" y="2732040"/>
            <a:ext cx="9180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75320" y="2732040"/>
            <a:ext cx="9180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97200" y="251136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338640" y="4071960"/>
            <a:ext cx="4140000" cy="144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7386480" y="402444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386480" y="407196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386480" y="402444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386480" y="402444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386480" y="407196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86480" y="407196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46480" y="385128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44640" y="4781520"/>
            <a:ext cx="1362240" cy="144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44640" y="478152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1844640" y="473400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62160" y="45608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900680" y="2921040"/>
            <a:ext cx="1255680" cy="144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6064200" y="287352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6064200" y="292104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64200" y="287352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64200" y="287352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64200" y="292104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64200" y="292104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165640" y="270036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38640" y="3362400"/>
            <a:ext cx="1428480" cy="144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38640" y="3362400"/>
            <a:ext cx="9360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338640" y="3314880"/>
            <a:ext cx="9360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97200" y="314172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7611840" y="4260960"/>
            <a:ext cx="1136520" cy="144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8656560" y="4214880"/>
            <a:ext cx="92160" cy="4608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8656560" y="426096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656560" y="4214880"/>
            <a:ext cx="92160" cy="46080"/>
          </a:xfrm>
          <a:custGeom>
            <a:avLst/>
            <a:gdLst/>
            <a:ahLst/>
            <a:rect l="l" t="t" r="r" b="b"/>
            <a:pathLst>
              <a:path w="58" h="29">
                <a:moveTo>
                  <a:pt x="58" y="29"/>
                </a:moveTo>
                <a:lnTo>
                  <a:pt x="0" y="0"/>
                </a:lnTo>
                <a:lnTo>
                  <a:pt x="0" y="29"/>
                </a:lnTo>
                <a:lnTo>
                  <a:pt x="58" y="29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656560" y="4214880"/>
            <a:ext cx="92160" cy="46080"/>
          </a:xfrm>
          <a:custGeom>
            <a:avLst/>
            <a:gdLst/>
            <a:ahLst/>
            <a:rect l="l" t="t" r="r" b="b"/>
            <a:pathLst>
              <a:path w="58" h="29">
                <a:moveTo>
                  <a:pt x="58" y="29"/>
                </a:moveTo>
                <a:lnTo>
                  <a:pt x="0" y="0"/>
                </a:lnTo>
                <a:lnTo>
                  <a:pt x="0" y="29"/>
                </a:lnTo>
                <a:lnTo>
                  <a:pt x="58" y="29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656560" y="426096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656560" y="426096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824600" y="404028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338640" y="4640400"/>
            <a:ext cx="4140000" cy="144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338640" y="4640400"/>
            <a:ext cx="9360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3338640" y="4592160"/>
            <a:ext cx="93600" cy="4788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46480" y="441972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844640" y="2179800"/>
            <a:ext cx="1362240" cy="144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3114720" y="2131560"/>
            <a:ext cx="92160" cy="4788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3114720" y="217980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14720" y="2131920"/>
            <a:ext cx="92160" cy="4788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14720" y="2131920"/>
            <a:ext cx="92160" cy="4788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14720" y="217980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14720" y="217980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63600" y="195912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900680" y="3189240"/>
            <a:ext cx="1255680" cy="180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00680" y="318924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900680" y="314172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65640" y="296856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612200" y="4497480"/>
            <a:ext cx="1136520" cy="144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12200" y="4497480"/>
            <a:ext cx="9180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7612200" y="4451400"/>
            <a:ext cx="91800" cy="4608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824600" y="427680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730600" y="2432160"/>
            <a:ext cx="436320" cy="252360"/>
          </a:xfrm>
          <a:custGeom>
            <a:avLst/>
            <a:gdLst/>
            <a:ahLst/>
            <a:rect l="l" t="t" r="r" b="b"/>
            <a:pathLst>
              <a:path w="275" h="159">
                <a:moveTo>
                  <a:pt x="275" y="0"/>
                </a:moveTo>
                <a:lnTo>
                  <a:pt x="275" y="129"/>
                </a:lnTo>
                <a:lnTo>
                  <a:pt x="250" y="159"/>
                </a:lnTo>
                <a:lnTo>
                  <a:pt x="0" y="159"/>
                </a:lnTo>
                <a:lnTo>
                  <a:pt x="0" y="0"/>
                </a:lnTo>
                <a:lnTo>
                  <a:pt x="275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827080" y="3078000"/>
            <a:ext cx="200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862360" y="3787920"/>
            <a:ext cx="7408800" cy="144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822040" y="2463840"/>
            <a:ext cx="36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47200" y="4843440"/>
            <a:ext cx="8596440" cy="20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rbitrarily complex sequences of behaviou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ood for protocol detail executed at both ends and at serv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tities must represent deployed processes (no dynamic bind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ultiple deliveries in this case must be interpreted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ceiver behaviour is nested into the Receiver step(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D54F-9F13-4C20-AA47-10876F7B59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Other kinds of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ower analysis could closely follow performance, with energy demands as well as time demand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mory seems to have the same possibility, adding data sizes to objects and/or opera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liability: failure and repair events can be modeled with MARTE annotations on failure/repair state machines. In principle there seems to be no barrie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3C61-BA81-42FC-843E-A794F51A18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74480" y="645840"/>
            <a:ext cx="86691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Example of a Performance Model: an electronic bookstore (TPC-W). </a:t>
            </a:r>
            <a:r>
              <a:rPr b="1" lang="en-US" sz="2800" spc="-1" strike="noStrike">
                <a:solidFill>
                  <a:srgbClr val="336600"/>
                </a:solidFill>
                <a:latin typeface="Arial Unicode MS"/>
              </a:rPr>
              <a:t>Deployment Diagram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47200" y="6586560"/>
            <a:ext cx="85964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0" y="1762200"/>
          <a:ext cx="9144000" cy="50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2200"/>
                    <a:ext cx="9144000" cy="50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15FA-480F-40A9-92B1-E453FFF1B6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2000" y="646200"/>
            <a:ext cx="381636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TPC-W </a:t>
            </a:r>
            <a:r>
              <a:rPr b="1" lang="en-US" sz="2800" spc="-1" strike="noStrike">
                <a:solidFill>
                  <a:srgbClr val="336600"/>
                </a:solidFill>
                <a:latin typeface="Arial Unicode MS"/>
              </a:rPr>
              <a:t>Behaviour</a:t>
            </a: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One Scenario</a:t>
            </a:r>
            <a:br>
              <a:rPr sz="2800"/>
            </a:b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(GetHomePage)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22200" y="2442960"/>
            <a:ext cx="3905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ne of 16 scenarios defined in the benchmark spec (by the Transaction Processing Council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text parameters declare some variables,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me are declared in pla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osed workloa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quired and calculated variabl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sgSize expres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peated Step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bability of al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al operation for imageserver file retriev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-40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80" y="702072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igure 17.1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08440" y="0"/>
            <a:ext cx="5335560" cy="6868440"/>
            <a:chOff x="3808440" y="0"/>
            <a:chExt cx="5335560" cy="6868440"/>
          </a:xfrm>
        </p:grpSpPr>
        <p:pic>
          <p:nvPicPr>
            <p:cNvPr id="770" name="image002" descr=""/>
            <p:cNvPicPr/>
            <p:nvPr/>
          </p:nvPicPr>
          <p:blipFill>
            <a:blip r:embed="rId1"/>
            <a:stretch/>
          </p:blipFill>
          <p:spPr>
            <a:xfrm>
              <a:off x="4079880" y="0"/>
              <a:ext cx="5064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6981840" y="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09880" y="196848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51320" y="634824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843680" y="331308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08440" y="155736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618984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37560" y="225900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821040" y="116064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7B62-10CA-42F8-A9B9-5C1126CBF2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322200" y="2442960"/>
            <a:ext cx="123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6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ne of 16 scenarios defined in the benchmark spec (by the Transaction Processing Council)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Context parameters declare some variables, 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some are declared in plac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closed workload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required and calculated variables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sgSize expression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repeated Step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robability of al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external operation for imageserver file retrieval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-40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080" y="702072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igure 17.1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-230040" y="1328760"/>
            <a:ext cx="9373320" cy="12048840"/>
            <a:chOff x="-230040" y="1328760"/>
            <a:chExt cx="9373320" cy="12048840"/>
          </a:xfrm>
        </p:grpSpPr>
        <p:pic>
          <p:nvPicPr>
            <p:cNvPr id="783" name="image002" descr=""/>
            <p:cNvPicPr/>
            <p:nvPr/>
          </p:nvPicPr>
          <p:blipFill>
            <a:blip r:embed="rId1"/>
            <a:stretch/>
          </p:blipFill>
          <p:spPr>
            <a:xfrm>
              <a:off x="246600" y="1328760"/>
              <a:ext cx="8896680" cy="1204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5344920" y="138420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-227160" y="4845960"/>
              <a:ext cx="90612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3600" y="12538080"/>
              <a:ext cx="90612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859080" y="720828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-230040" y="412344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56560" y="1225944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48280" y="535320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-207720" y="342324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PlaceHolder 2"/>
          <p:cNvSpPr>
            <a:spLocks noGrp="1"/>
          </p:cNvSpPr>
          <p:nvPr>
            <p:ph type="title"/>
          </p:nvPr>
        </p:nvSpPr>
        <p:spPr>
          <a:xfrm>
            <a:off x="252000" y="646200"/>
            <a:ext cx="889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TPC-W GetHomePage Scenario Expanded: Top of Diagram 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8327-140D-44A5-8337-8C2EBEED49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-230040" y="-5191200"/>
            <a:ext cx="9373320" cy="12048840"/>
            <a:chOff x="-230040" y="-5191200"/>
            <a:chExt cx="9373320" cy="12048840"/>
          </a:xfrm>
        </p:grpSpPr>
        <p:pic>
          <p:nvPicPr>
            <p:cNvPr id="794" name="image002" descr=""/>
            <p:cNvPicPr/>
            <p:nvPr/>
          </p:nvPicPr>
          <p:blipFill>
            <a:blip r:embed="rId1"/>
            <a:stretch/>
          </p:blipFill>
          <p:spPr>
            <a:xfrm>
              <a:off x="246600" y="-5191200"/>
              <a:ext cx="8896680" cy="1204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5344920" y="-513540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-227160" y="-1673640"/>
              <a:ext cx="90612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3600" y="6018120"/>
              <a:ext cx="90612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59080" y="68832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-230040" y="-239616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56560" y="573948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48280" y="-116640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-207720" y="-309636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4188960"/>
            <a:ext cx="351144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TPC-W Expanded: Bottom of Diagram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22200" y="2442960"/>
            <a:ext cx="1764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-40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73C5-8544-4FCA-AC40-4BB1686756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Queueing Model of 10 scenario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53520" y="1212480"/>
            <a:ext cx="879012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notation is total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ost demand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er user respon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l single serve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ebserverCPU runs the webserver and imageserver process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2762280" y="1066680"/>
            <a:ext cx="6381720" cy="3962520"/>
            <a:chOff x="2762280" y="1066680"/>
            <a:chExt cx="6381720" cy="3962520"/>
          </a:xfrm>
        </p:grpSpPr>
        <p:grpSp>
          <p:nvGrpSpPr>
            <p:cNvPr id="809" name=""/>
            <p:cNvGrpSpPr/>
            <p:nvPr/>
          </p:nvGrpSpPr>
          <p:grpSpPr>
            <a:xfrm>
              <a:off x="2762280" y="1066680"/>
              <a:ext cx="6381720" cy="3962520"/>
              <a:chOff x="2762280" y="1066680"/>
              <a:chExt cx="6381720" cy="3962520"/>
            </a:xfrm>
          </p:grpSpPr>
          <p:sp>
            <p:nvSpPr>
              <p:cNvPr id="810" name=""/>
              <p:cNvSpPr/>
              <p:nvPr/>
            </p:nvSpPr>
            <p:spPr>
              <a:xfrm>
                <a:off x="2762280" y="2904840"/>
                <a:ext cx="1209600" cy="1209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bserver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.7 m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126040" y="1066680"/>
                <a:ext cx="1209600" cy="1209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ThinkTime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934400" y="2840040"/>
                <a:ext cx="1209600" cy="1209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nancial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23.3 m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342040" y="3819240"/>
                <a:ext cx="1209600" cy="1209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base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0.3 m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530760" y="1371600"/>
                <a:ext cx="132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{Nusers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3749400" y="2109600"/>
                <a:ext cx="156348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970440" y="3584520"/>
                <a:ext cx="141588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 flipV="1">
                <a:off x="3765240" y="3879720"/>
                <a:ext cx="156204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867120" y="3171600"/>
                <a:ext cx="4114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3999960" y="3436920"/>
                <a:ext cx="390852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 flipV="1">
              <a:off x="3863880" y="2212920"/>
              <a:ext cx="1563840" cy="9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DF44-1972-45B4-8DB3-ECB5C88B90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Layered Queueing Model of the GetHomePage scenario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49360" y="1452600"/>
          <a:ext cx="7207200" cy="54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9360" y="1452600"/>
                    <a:ext cx="72072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437F-FBB1-4A44-BF28-DF86115518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LQN for 10 scenario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47200" y="5659200"/>
            <a:ext cx="859644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though this model is complex, solutions are fast (second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1"/>
          <a:srcRect l="0" t="0" r="0" b="48226"/>
          <a:stretch/>
        </p:blipFill>
        <p:spPr>
          <a:xfrm>
            <a:off x="0" y="1650960"/>
            <a:ext cx="10194840" cy="303552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5098680" y="166536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10 scenarios as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727160" y="268272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s they invoke at we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17560" y="442260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s at DataBase, imageServer and financial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15FF-EB6B-4C75-9260-AA00D294120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Solutions of the LQN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965920" y="4394160"/>
            <a:ext cx="317808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sponse ti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uge improvement found with redesig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ad-only cache for promo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3635280" y="339840"/>
            <a:ext cx="5508720" cy="37573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0" y="2914560"/>
            <a:ext cx="5530680" cy="39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7331-039A-4341-8C2E-4743D326CF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A Simple but Typical Example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600" y="1490400"/>
            <a:ext cx="254484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web-based applic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 CPUs linked by a LA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application is integrated into the web server proces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833560" y="1452600"/>
          <a:ext cx="6310440" cy="53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3560" y="1452600"/>
                    <a:ext cx="631044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F657-C6CB-42C6-AD17-0BA2EA6694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An Interaction in the Example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2000" y="1558800"/>
            <a:ext cx="248760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read pool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orkload intens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eps in ord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st (execution) demand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ssage siz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3440" y="1293840"/>
          <a:ext cx="6640560" cy="55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3440" y="1293840"/>
                    <a:ext cx="6640560" cy="55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1ACF-4BBF-4C48-B26A-EE0579BD5F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Challenges in Performance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ochastic models of behaviour are intrinsically complex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mplified descriptions are needed for manageable effor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.g. mean, or mean and variance instead of probability distribution for host dem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formation systems are evolving great complex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nalysis must be approxima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ssembly of services from components or other servic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lexible com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pecs of these systems are often incomple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t must be easy to supply defaults or approximations for missing detail (visible in alternative treatments of communications cost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EAF0-1147-47C9-94FC-0D8D5442FC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There are Many Methods of Performance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9120" y="1287360"/>
            <a:ext cx="304488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ny PA method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Queueing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ayered Queueing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ther kinds of Extended Queueing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tri Ne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ochastic Activity Ne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ochastic Process Algebr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ochastic Autom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..and simulation languag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3000" y="2567160"/>
            <a:ext cx="5178960" cy="4267080"/>
            <a:chOff x="243000" y="2567160"/>
            <a:chExt cx="5178960" cy="4267080"/>
          </a:xfrm>
        </p:grpSpPr>
        <p:sp>
          <p:nvSpPr>
            <p:cNvPr id="110" name=""/>
            <p:cNvSpPr/>
            <p:nvPr/>
          </p:nvSpPr>
          <p:spPr>
            <a:xfrm>
              <a:off x="353880" y="257328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0920" y="2567160"/>
              <a:ext cx="1432080" cy="1544400"/>
            </a:xfrm>
            <a:custGeom>
              <a:avLst/>
              <a:gdLst/>
              <a:ahLst/>
              <a:rect l="l" t="t" r="r" b="b"/>
              <a:pathLst>
                <a:path w="902" h="973">
                  <a:moveTo>
                    <a:pt x="151" y="0"/>
                  </a:moveTo>
                  <a:lnTo>
                    <a:pt x="120" y="2"/>
                  </a:lnTo>
                  <a:lnTo>
                    <a:pt x="93" y="13"/>
                  </a:lnTo>
                  <a:lnTo>
                    <a:pt x="68" y="26"/>
                  </a:lnTo>
                  <a:lnTo>
                    <a:pt x="44" y="44"/>
                  </a:lnTo>
                  <a:lnTo>
                    <a:pt x="26" y="67"/>
                  </a:lnTo>
                  <a:lnTo>
                    <a:pt x="13" y="93"/>
                  </a:lnTo>
                  <a:lnTo>
                    <a:pt x="4" y="120"/>
                  </a:lnTo>
                  <a:lnTo>
                    <a:pt x="0" y="151"/>
                  </a:lnTo>
                  <a:lnTo>
                    <a:pt x="0" y="822"/>
                  </a:lnTo>
                  <a:lnTo>
                    <a:pt x="4" y="853"/>
                  </a:lnTo>
                  <a:lnTo>
                    <a:pt x="13" y="880"/>
                  </a:lnTo>
                  <a:lnTo>
                    <a:pt x="26" y="907"/>
                  </a:lnTo>
                  <a:lnTo>
                    <a:pt x="44" y="929"/>
                  </a:lnTo>
                  <a:lnTo>
                    <a:pt x="68" y="947"/>
                  </a:lnTo>
                  <a:lnTo>
                    <a:pt x="93" y="962"/>
                  </a:lnTo>
                  <a:lnTo>
                    <a:pt x="120" y="969"/>
                  </a:lnTo>
                  <a:lnTo>
                    <a:pt x="151" y="973"/>
                  </a:lnTo>
                  <a:lnTo>
                    <a:pt x="751" y="973"/>
                  </a:lnTo>
                  <a:lnTo>
                    <a:pt x="782" y="969"/>
                  </a:lnTo>
                  <a:lnTo>
                    <a:pt x="809" y="962"/>
                  </a:lnTo>
                  <a:lnTo>
                    <a:pt x="837" y="947"/>
                  </a:lnTo>
                  <a:lnTo>
                    <a:pt x="858" y="929"/>
                  </a:lnTo>
                  <a:lnTo>
                    <a:pt x="876" y="907"/>
                  </a:lnTo>
                  <a:lnTo>
                    <a:pt x="891" y="880"/>
                  </a:lnTo>
                  <a:lnTo>
                    <a:pt x="898" y="853"/>
                  </a:lnTo>
                  <a:lnTo>
                    <a:pt x="902" y="822"/>
                  </a:lnTo>
                  <a:lnTo>
                    <a:pt x="902" y="151"/>
                  </a:lnTo>
                  <a:lnTo>
                    <a:pt x="898" y="120"/>
                  </a:lnTo>
                  <a:lnTo>
                    <a:pt x="891" y="93"/>
                  </a:lnTo>
                  <a:lnTo>
                    <a:pt x="876" y="67"/>
                  </a:lnTo>
                  <a:lnTo>
                    <a:pt x="858" y="44"/>
                  </a:lnTo>
                  <a:lnTo>
                    <a:pt x="837" y="26"/>
                  </a:lnTo>
                  <a:lnTo>
                    <a:pt x="809" y="13"/>
                  </a:lnTo>
                  <a:lnTo>
                    <a:pt x="782" y="2"/>
                  </a:lnTo>
                  <a:lnTo>
                    <a:pt x="75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1880" y="2728800"/>
              <a:ext cx="57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Any”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8600" y="27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4440" y="2976480"/>
              <a:ext cx="1262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design model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4120" y="3224160"/>
              <a:ext cx="46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6800" y="3471840"/>
              <a:ext cx="124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3040" y="3722760"/>
              <a:ext cx="1081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50520" y="37227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23000" y="5838840"/>
              <a:ext cx="1350720" cy="995400"/>
            </a:xfrm>
            <a:custGeom>
              <a:avLst/>
              <a:gdLst/>
              <a:ahLst/>
              <a:rect l="l" t="t" r="r" b="b"/>
              <a:pathLst>
                <a:path w="851" h="627">
                  <a:moveTo>
                    <a:pt x="106" y="0"/>
                  </a:moveTo>
                  <a:lnTo>
                    <a:pt x="84" y="2"/>
                  </a:lnTo>
                  <a:lnTo>
                    <a:pt x="64" y="9"/>
                  </a:lnTo>
                  <a:lnTo>
                    <a:pt x="48" y="18"/>
                  </a:lnTo>
                  <a:lnTo>
                    <a:pt x="31" y="31"/>
                  </a:lnTo>
                  <a:lnTo>
                    <a:pt x="19" y="47"/>
                  </a:lnTo>
                  <a:lnTo>
                    <a:pt x="10" y="63"/>
                  </a:lnTo>
                  <a:lnTo>
                    <a:pt x="2" y="83"/>
                  </a:lnTo>
                  <a:lnTo>
                    <a:pt x="0" y="105"/>
                  </a:lnTo>
                  <a:lnTo>
                    <a:pt x="0" y="522"/>
                  </a:lnTo>
                  <a:lnTo>
                    <a:pt x="2" y="544"/>
                  </a:lnTo>
                  <a:lnTo>
                    <a:pt x="10" y="564"/>
                  </a:lnTo>
                  <a:lnTo>
                    <a:pt x="19" y="580"/>
                  </a:lnTo>
                  <a:lnTo>
                    <a:pt x="31" y="597"/>
                  </a:lnTo>
                  <a:lnTo>
                    <a:pt x="48" y="609"/>
                  </a:lnTo>
                  <a:lnTo>
                    <a:pt x="64" y="618"/>
                  </a:lnTo>
                  <a:lnTo>
                    <a:pt x="84" y="626"/>
                  </a:lnTo>
                  <a:lnTo>
                    <a:pt x="106" y="627"/>
                  </a:lnTo>
                  <a:lnTo>
                    <a:pt x="746" y="627"/>
                  </a:lnTo>
                  <a:lnTo>
                    <a:pt x="768" y="626"/>
                  </a:lnTo>
                  <a:lnTo>
                    <a:pt x="788" y="618"/>
                  </a:lnTo>
                  <a:lnTo>
                    <a:pt x="804" y="609"/>
                  </a:lnTo>
                  <a:lnTo>
                    <a:pt x="820" y="597"/>
                  </a:lnTo>
                  <a:lnTo>
                    <a:pt x="833" y="580"/>
                  </a:lnTo>
                  <a:lnTo>
                    <a:pt x="842" y="564"/>
                  </a:lnTo>
                  <a:lnTo>
                    <a:pt x="849" y="544"/>
                  </a:lnTo>
                  <a:lnTo>
                    <a:pt x="851" y="522"/>
                  </a:lnTo>
                  <a:lnTo>
                    <a:pt x="851" y="105"/>
                  </a:lnTo>
                  <a:lnTo>
                    <a:pt x="849" y="83"/>
                  </a:lnTo>
                  <a:lnTo>
                    <a:pt x="842" y="63"/>
                  </a:lnTo>
                  <a:lnTo>
                    <a:pt x="833" y="47"/>
                  </a:lnTo>
                  <a:lnTo>
                    <a:pt x="820" y="31"/>
                  </a:lnTo>
                  <a:lnTo>
                    <a:pt x="804" y="18"/>
                  </a:lnTo>
                  <a:lnTo>
                    <a:pt x="788" y="9"/>
                  </a:lnTo>
                  <a:lnTo>
                    <a:pt x="768" y="2"/>
                  </a:lnTo>
                  <a:lnTo>
                    <a:pt x="74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77240" y="5977080"/>
              <a:ext cx="57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Any”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53960" y="5977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38920" y="6227640"/>
              <a:ext cx="124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0640" y="6475320"/>
              <a:ext cx="56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54040" y="64753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67280" y="2718000"/>
              <a:ext cx="1278000" cy="1358640"/>
            </a:xfrm>
            <a:custGeom>
              <a:avLst/>
              <a:gdLst/>
              <a:ahLst/>
              <a:rect l="l" t="t" r="r" b="b"/>
              <a:pathLst>
                <a:path w="805" h="856">
                  <a:moveTo>
                    <a:pt x="134" y="0"/>
                  </a:moveTo>
                  <a:lnTo>
                    <a:pt x="107" y="3"/>
                  </a:lnTo>
                  <a:lnTo>
                    <a:pt x="81" y="11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3" y="58"/>
                  </a:lnTo>
                  <a:lnTo>
                    <a:pt x="11" y="81"/>
                  </a:lnTo>
                  <a:lnTo>
                    <a:pt x="3" y="105"/>
                  </a:lnTo>
                  <a:lnTo>
                    <a:pt x="0" y="132"/>
                  </a:lnTo>
                  <a:lnTo>
                    <a:pt x="0" y="722"/>
                  </a:lnTo>
                  <a:lnTo>
                    <a:pt x="3" y="749"/>
                  </a:lnTo>
                  <a:lnTo>
                    <a:pt x="11" y="774"/>
                  </a:lnTo>
                  <a:lnTo>
                    <a:pt x="23" y="796"/>
                  </a:lnTo>
                  <a:lnTo>
                    <a:pt x="40" y="816"/>
                  </a:lnTo>
                  <a:lnTo>
                    <a:pt x="60" y="832"/>
                  </a:lnTo>
                  <a:lnTo>
                    <a:pt x="81" y="845"/>
                  </a:lnTo>
                  <a:lnTo>
                    <a:pt x="107" y="854"/>
                  </a:lnTo>
                  <a:lnTo>
                    <a:pt x="134" y="856"/>
                  </a:lnTo>
                  <a:lnTo>
                    <a:pt x="671" y="856"/>
                  </a:lnTo>
                  <a:lnTo>
                    <a:pt x="698" y="854"/>
                  </a:lnTo>
                  <a:lnTo>
                    <a:pt x="723" y="845"/>
                  </a:lnTo>
                  <a:lnTo>
                    <a:pt x="745" y="832"/>
                  </a:lnTo>
                  <a:lnTo>
                    <a:pt x="765" y="816"/>
                  </a:lnTo>
                  <a:lnTo>
                    <a:pt x="781" y="796"/>
                  </a:lnTo>
                  <a:lnTo>
                    <a:pt x="794" y="774"/>
                  </a:lnTo>
                  <a:lnTo>
                    <a:pt x="803" y="749"/>
                  </a:lnTo>
                  <a:lnTo>
                    <a:pt x="805" y="722"/>
                  </a:lnTo>
                  <a:lnTo>
                    <a:pt x="805" y="132"/>
                  </a:lnTo>
                  <a:lnTo>
                    <a:pt x="803" y="105"/>
                  </a:lnTo>
                  <a:lnTo>
                    <a:pt x="794" y="81"/>
                  </a:lnTo>
                  <a:lnTo>
                    <a:pt x="781" y="58"/>
                  </a:lnTo>
                  <a:lnTo>
                    <a:pt x="765" y="40"/>
                  </a:lnTo>
                  <a:lnTo>
                    <a:pt x="745" y="23"/>
                  </a:lnTo>
                  <a:lnTo>
                    <a:pt x="723" y="11"/>
                  </a:lnTo>
                  <a:lnTo>
                    <a:pt x="698" y="3"/>
                  </a:lnTo>
                  <a:lnTo>
                    <a:pt x="671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83520" y="2870280"/>
              <a:ext cx="476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r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15040" y="3117960"/>
              <a:ext cx="81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cenari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10800" y="3365640"/>
              <a:ext cx="61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odel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0640" y="361800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CS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92200" y="3618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000" y="5800680"/>
              <a:ext cx="1663560" cy="1008000"/>
            </a:xfrm>
            <a:custGeom>
              <a:avLst/>
              <a:gdLst/>
              <a:ahLst/>
              <a:rect l="l" t="t" r="r" b="b"/>
              <a:pathLst>
                <a:path w="1048" h="635">
                  <a:moveTo>
                    <a:pt x="105" y="0"/>
                  </a:moveTo>
                  <a:lnTo>
                    <a:pt x="83" y="2"/>
                  </a:lnTo>
                  <a:lnTo>
                    <a:pt x="63" y="9"/>
                  </a:lnTo>
                  <a:lnTo>
                    <a:pt x="47" y="18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9" y="66"/>
                  </a:lnTo>
                  <a:lnTo>
                    <a:pt x="2" y="86"/>
                  </a:lnTo>
                  <a:lnTo>
                    <a:pt x="0" y="107"/>
                  </a:lnTo>
                  <a:lnTo>
                    <a:pt x="0" y="530"/>
                  </a:lnTo>
                  <a:lnTo>
                    <a:pt x="2" y="552"/>
                  </a:lnTo>
                  <a:lnTo>
                    <a:pt x="9" y="572"/>
                  </a:lnTo>
                  <a:lnTo>
                    <a:pt x="18" y="588"/>
                  </a:lnTo>
                  <a:lnTo>
                    <a:pt x="31" y="604"/>
                  </a:lnTo>
                  <a:lnTo>
                    <a:pt x="47" y="617"/>
                  </a:lnTo>
                  <a:lnTo>
                    <a:pt x="63" y="626"/>
                  </a:lnTo>
                  <a:lnTo>
                    <a:pt x="83" y="633"/>
                  </a:lnTo>
                  <a:lnTo>
                    <a:pt x="105" y="635"/>
                  </a:lnTo>
                  <a:lnTo>
                    <a:pt x="943" y="635"/>
                  </a:lnTo>
                  <a:lnTo>
                    <a:pt x="965" y="633"/>
                  </a:lnTo>
                  <a:lnTo>
                    <a:pt x="985" y="626"/>
                  </a:lnTo>
                  <a:lnTo>
                    <a:pt x="1001" y="617"/>
                  </a:lnTo>
                  <a:lnTo>
                    <a:pt x="1018" y="604"/>
                  </a:lnTo>
                  <a:lnTo>
                    <a:pt x="1030" y="588"/>
                  </a:lnTo>
                  <a:lnTo>
                    <a:pt x="1039" y="572"/>
                  </a:lnTo>
                  <a:lnTo>
                    <a:pt x="1047" y="552"/>
                  </a:lnTo>
                  <a:lnTo>
                    <a:pt x="1048" y="530"/>
                  </a:lnTo>
                  <a:lnTo>
                    <a:pt x="1048" y="107"/>
                  </a:lnTo>
                  <a:lnTo>
                    <a:pt x="1047" y="86"/>
                  </a:lnTo>
                  <a:lnTo>
                    <a:pt x="1039" y="66"/>
                  </a:lnTo>
                  <a:lnTo>
                    <a:pt x="1030" y="47"/>
                  </a:lnTo>
                  <a:lnTo>
                    <a:pt x="1018" y="31"/>
                  </a:lnTo>
                  <a:lnTo>
                    <a:pt x="1001" y="18"/>
                  </a:lnTo>
                  <a:lnTo>
                    <a:pt x="985" y="9"/>
                  </a:lnTo>
                  <a:lnTo>
                    <a:pt x="965" y="2"/>
                  </a:lnTo>
                  <a:lnTo>
                    <a:pt x="943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0560" y="5942160"/>
              <a:ext cx="1158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erformanc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0600" y="6189840"/>
              <a:ext cx="160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sults and desig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6960" y="6437520"/>
              <a:ext cx="56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dvi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40720" y="6437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13120" y="4373640"/>
              <a:ext cx="1552680" cy="1055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14640" y="4470480"/>
              <a:ext cx="1486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nvert CSM t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09600" y="4718160"/>
              <a:ext cx="151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is performanc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8160" y="4971960"/>
              <a:ext cx="1375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odel langua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82640" y="49719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46400" y="2878200"/>
              <a:ext cx="1298520" cy="1050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1640" y="2979720"/>
              <a:ext cx="82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xtract 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36400" y="2979720"/>
              <a:ext cx="36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M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84080" y="322740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from thi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06680" y="3479760"/>
              <a:ext cx="954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esign too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60320" y="34797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11640" y="5767560"/>
              <a:ext cx="1154160" cy="1020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35640" y="5864400"/>
              <a:ext cx="73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xplor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3840" y="6112080"/>
              <a:ext cx="75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olutio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5720" y="636588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pa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15600" y="6365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360" y="4668840"/>
              <a:ext cx="1154160" cy="4809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880" y="4773600"/>
              <a:ext cx="82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Feedbac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61600" y="47736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60" y="5149800"/>
              <a:ext cx="289080" cy="62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70120" y="5072040"/>
              <a:ext cx="264960" cy="72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8000" y="4098960"/>
              <a:ext cx="292320" cy="282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35640" y="4087800"/>
              <a:ext cx="25380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4960" y="3308400"/>
              <a:ext cx="555840" cy="2984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89120" y="3319560"/>
              <a:ext cx="62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44920" y="3200400"/>
              <a:ext cx="533520" cy="487440"/>
            </a:xfrm>
            <a:custGeom>
              <a:avLst/>
              <a:gdLst/>
              <a:ahLst/>
              <a:rect l="l" t="t" r="r" b="b"/>
              <a:pathLst>
                <a:path w="336" h="307">
                  <a:moveTo>
                    <a:pt x="252" y="0"/>
                  </a:moveTo>
                  <a:lnTo>
                    <a:pt x="252" y="77"/>
                  </a:lnTo>
                  <a:lnTo>
                    <a:pt x="0" y="77"/>
                  </a:lnTo>
                  <a:lnTo>
                    <a:pt x="0" y="231"/>
                  </a:lnTo>
                  <a:lnTo>
                    <a:pt x="252" y="231"/>
                  </a:lnTo>
                  <a:lnTo>
                    <a:pt x="252" y="307"/>
                  </a:lnTo>
                  <a:lnTo>
                    <a:pt x="336" y="153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5720" y="3338640"/>
              <a:ext cx="485640" cy="2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8680" y="6108840"/>
              <a:ext cx="435240" cy="2458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02080" y="6129360"/>
              <a:ext cx="51588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83360" y="5443560"/>
              <a:ext cx="509400" cy="401760"/>
            </a:xfrm>
            <a:custGeom>
              <a:avLst/>
              <a:gdLst/>
              <a:ahLst/>
              <a:rect l="l" t="t" r="r" b="b"/>
              <a:pathLst>
                <a:path w="321" h="253">
                  <a:moveTo>
                    <a:pt x="321" y="189"/>
                  </a:moveTo>
                  <a:lnTo>
                    <a:pt x="241" y="189"/>
                  </a:lnTo>
                  <a:lnTo>
                    <a:pt x="241" y="0"/>
                  </a:lnTo>
                  <a:lnTo>
                    <a:pt x="80" y="0"/>
                  </a:lnTo>
                  <a:lnTo>
                    <a:pt x="80" y="189"/>
                  </a:lnTo>
                  <a:lnTo>
                    <a:pt x="0" y="189"/>
                  </a:lnTo>
                  <a:lnTo>
                    <a:pt x="162" y="253"/>
                  </a:lnTo>
                  <a:lnTo>
                    <a:pt x="321" y="189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4480" y="5364360"/>
              <a:ext cx="225360" cy="38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9800" y="6033960"/>
              <a:ext cx="506520" cy="492480"/>
            </a:xfrm>
            <a:custGeom>
              <a:avLst/>
              <a:gdLst/>
              <a:ahLst/>
              <a:rect l="l" t="t" r="r" b="b"/>
              <a:pathLst>
                <a:path w="319" h="310">
                  <a:moveTo>
                    <a:pt x="80" y="0"/>
                  </a:moveTo>
                  <a:lnTo>
                    <a:pt x="80" y="78"/>
                  </a:lnTo>
                  <a:lnTo>
                    <a:pt x="319" y="78"/>
                  </a:lnTo>
                  <a:lnTo>
                    <a:pt x="319" y="232"/>
                  </a:lnTo>
                  <a:lnTo>
                    <a:pt x="80" y="232"/>
                  </a:lnTo>
                  <a:lnTo>
                    <a:pt x="80" y="310"/>
                  </a:lnTo>
                  <a:lnTo>
                    <a:pt x="0" y="15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30400" y="6172200"/>
              <a:ext cx="462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6280" y="4111560"/>
              <a:ext cx="495360" cy="560520"/>
            </a:xfrm>
            <a:custGeom>
              <a:avLst/>
              <a:gdLst/>
              <a:ahLst/>
              <a:rect l="l" t="t" r="r" b="b"/>
              <a:pathLst>
                <a:path w="312" h="353">
                  <a:moveTo>
                    <a:pt x="0" y="88"/>
                  </a:moveTo>
                  <a:lnTo>
                    <a:pt x="78" y="88"/>
                  </a:lnTo>
                  <a:lnTo>
                    <a:pt x="78" y="353"/>
                  </a:lnTo>
                  <a:lnTo>
                    <a:pt x="234" y="353"/>
                  </a:lnTo>
                  <a:lnTo>
                    <a:pt x="234" y="88"/>
                  </a:lnTo>
                  <a:lnTo>
                    <a:pt x="312" y="88"/>
                  </a:lnTo>
                  <a:lnTo>
                    <a:pt x="156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7400" y="4243320"/>
              <a:ext cx="219240" cy="48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93560" y="15019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project of ours called PUMA integ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ny PA methods with annotated specific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ref: ACM WOSP 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71280" y="4221000"/>
            <a:ext cx="170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5160-5D71-4606-8194-BB0237350C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How MARTE Supports Performance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6000" y="1355760"/>
            <a:ext cx="254484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eneric Quantitative Analysis Modeling   (ch 15) supports both SA and P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efixes Ga, Sa, Pa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a is used by Pa fo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ext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orkload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enario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89160" y="1278000"/>
            <a:ext cx="6054840" cy="4944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359160" y="6400800"/>
            <a:ext cx="57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ability (ch 1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formance (ch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EED5-1B03-485C-8B58-BC7C823851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Special Aspects of PA, compared to SA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47200" y="1311120"/>
            <a:ext cx="859644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e more in the quantities (NFPs) and how they are used,  than in the stereotyp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atistical rather than deterministic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fference in emphasis and detai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so, support for approximation and abstra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84C0-33B3-4367-800E-172E45BCBE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Statistical Quantities for Input to the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7200" y="1481040"/>
            <a:ext cx="859644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most important difference in PA is the common use of statistical quantit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4520" indent="-34452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st demands (execution demand of a Step, in time units or cycle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4520" indent="-34452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ta sizes, for retrieval handling cos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4520" indent="-34452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ssage sizes, for network handling cos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4520" indent="-34452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abilities of optional path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4520" indent="-34452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op counts for repeated opera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4520" indent="-34452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pplied workload intensit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448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ser population siz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448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ser population external dela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448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al rat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2E91-BD2B-4D94-A829-6B4DB3B466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2:42:32Z</dcterms:created>
  <dc:creator>Murray Woodside</dc:creator>
  <dc:description/>
  <dc:language>en-US</dc:language>
  <cp:lastModifiedBy>rioux</cp:lastModifiedBy>
  <cp:lastPrinted>2001-11-05T22:45:00Z</cp:lastPrinted>
  <dcterms:modified xsi:type="dcterms:W3CDTF">2008-01-23T13:44:58Z</dcterms:modified>
  <cp:revision>322</cp:revision>
  <dc:subject/>
  <dc:title>Performance Analysis with Use CAse Maps</dc:title>
</cp:coreProperties>
</file>