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1A4-468B-4384-A06E-69301CD5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668-444A-433C-B666-44E0DB0A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058-CE59-40E7-89CB-4EFE0AB6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609-6CAC-4BD6-AE0A-601FF75C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6A2-33A8-4895-B5CC-945302ED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060-24E5-4C27-B301-17E2F980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1552-2FB3-4C4E-A318-4D94BB63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8299-A117-43A3-88DD-CAEFD18D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D6B-3ED3-41E5-906F-9D5F8463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041-AA76-4F6F-B4D9-9CB3AB44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9909-FC75-4ACB-B19F-37B51720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40D-577E-471F-8C93-A77F590D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9FF6-BFEE-4CBE-B6DD-9FB361BE8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ights from this Me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&amp;C review, assignments and alignment with UML 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Radio Submission internal and OMG review (Telecom DTF) and assig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of Modeling Conventions used for our own specifications (need to add/find MDA style gu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ases and waveform classification for software radio working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31 Jan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J.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wradio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wradio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6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adio D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ables from this Mee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SWR Roadmap status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SDRF January summary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SWR Initial Submission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Deployment and Configuration of Component-based Applications overview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Modeling Conventions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Deliverables (In-Proces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and Configuration of Component-based Applications” Submission (PSM for Embedded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R Submission (Updated PIM and P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weight Services Sub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weight CCM Sub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 Items for the Orlando Mee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, update and working session for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1752480"/>
            <a:ext cx="3962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6360" indent="-236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522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31 Jan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J. Sm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wradio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wradio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57200"/>
            <a:ext cx="4065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adio D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15:58:21Z</dcterms:created>
  <dc:creator>Wayne Haughey</dc:creator>
  <dc:description/>
  <dc:language>en-US</dc:language>
  <cp:lastModifiedBy>cycon office systems</cp:lastModifiedBy>
  <dcterms:modified xsi:type="dcterms:W3CDTF">2002-02-01T16:46:46Z</dcterms:modified>
  <cp:revision>46</cp:revision>
  <dc:subject/>
  <dc:title>{TF/SIG/WG/SC Name Here}</dc:title>
</cp:coreProperties>
</file>