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800" y="7632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080" y="1295280"/>
            <a:ext cx="9061560" cy="2471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2080" y="4001760"/>
            <a:ext cx="9061560" cy="2471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800" y="7632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080" y="1295280"/>
            <a:ext cx="4421880" cy="2471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360" y="1295280"/>
            <a:ext cx="4421880" cy="2471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080" y="4001760"/>
            <a:ext cx="4421880" cy="2471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25360" y="4001760"/>
            <a:ext cx="4421880" cy="2471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800" y="7632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080" y="1295280"/>
            <a:ext cx="2917440" cy="2471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45680" y="1295280"/>
            <a:ext cx="2917440" cy="2471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09640" y="1295280"/>
            <a:ext cx="2917440" cy="2471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2080" y="4001760"/>
            <a:ext cx="2917440" cy="2471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45680" y="4001760"/>
            <a:ext cx="2917440" cy="2471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09640" y="4001760"/>
            <a:ext cx="2917440" cy="2471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800" y="7632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2080" y="1295280"/>
            <a:ext cx="90615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800" y="7632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2080" y="1295280"/>
            <a:ext cx="9061560" cy="51818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800" y="7632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2080" y="1295280"/>
            <a:ext cx="4421880" cy="51818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25360" y="1295280"/>
            <a:ext cx="4421880" cy="51818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00" y="7632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800" y="76320"/>
            <a:ext cx="91328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" y="7632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080" y="1295280"/>
            <a:ext cx="4421880" cy="2471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360" y="1295280"/>
            <a:ext cx="4421880" cy="51818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2080" y="4001760"/>
            <a:ext cx="4421880" cy="2471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" y="7632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080" y="1295280"/>
            <a:ext cx="4421880" cy="518184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5360" y="1295280"/>
            <a:ext cx="4421880" cy="2471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25360" y="4001760"/>
            <a:ext cx="4421880" cy="2471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800" y="7632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2080" y="1295280"/>
            <a:ext cx="4421880" cy="2471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5360" y="1295280"/>
            <a:ext cx="4421880" cy="2471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2080" y="4001760"/>
            <a:ext cx="9061560" cy="2471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" y="7632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080" y="1295280"/>
            <a:ext cx="906156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108000" rIns="108000" tIns="54000" bIns="5400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42960" indent="-1713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00160" indent="-1713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00160" indent="-1713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00160" indent="-17136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47760" y="2013120"/>
            <a:ext cx="82296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WR Use Case Model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92240" y="4159080"/>
            <a:ext cx="874692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rancis Bordeleau (Mercury Computer Systems/Carleton Univers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rancois-Xavier Lebas (Tha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logo_transparent" descr=""/>
          <p:cNvPicPr/>
          <p:nvPr/>
        </p:nvPicPr>
        <p:blipFill>
          <a:blip r:embed="rId1"/>
          <a:stretch/>
        </p:blipFill>
        <p:spPr>
          <a:xfrm>
            <a:off x="352440" y="5095800"/>
            <a:ext cx="3476520" cy="11588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407880" y="3967200"/>
            <a:ext cx="5519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" y="7632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annel Configuratio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55840" y="1279440"/>
          <a:ext cx="6083280" cy="469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1279440"/>
                    <a:ext cx="608328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00" y="7632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Usage of Statecharts and Sequence Diagram at the Use Case level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53520" y="1311120"/>
            <a:ext cx="8253720" cy="491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108000" rIns="108000" tIns="54000" bIns="5400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 statecharts  at the use case level to give a high-level global overview of system behavio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 sequence diagrams to give an user-system interaction-based view of a use ca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ationships between use case and statechart is many-to-on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lationship between use case and sequence diagram is one-to-many (potentially one sequence diagram for each possible scenario in a use case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inement between system level statechart and component statechart must be consist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inement between use case (black-box) level SD and white-box SD must be consistent, and must be consistent with class defini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800" y="7632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p level Use Case Packag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5120" y="1311120"/>
            <a:ext cx="7216560" cy="491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108000" rIns="108000" tIns="54000" bIns="5400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urrent SWRadio spec include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adio System Functionality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adio Set Functionality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F4285 Military Waveform Example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 the new version of the SWRadio specification, they will constitute three different packag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lationships between the three packages will be explicit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adio System Package describes the global use cases/scenarios of a SWRadio syste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adio Set Package describes the main use cases/scenarios of a radio set. This is the main focus of the current specificatio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79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F4285 Military Waveform is used as an example to illustrate and validate the general SWRadio use cases and scenarios described in the Radio Set and Radio System Package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e propose to promote the first two packages (Radio System Package and Radio Set Package) to the main part of the document and put the HF4285 Military Waveform in an appendix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0">
              <a:lnSpc>
                <a:spcPct val="79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79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" y="7632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in Radio System Main Use Cas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87040" y="1963440"/>
            <a:ext cx="7697880" cy="30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108000" rIns="108000" tIns="54000" bIns="5400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rpo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arify end-users need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lineates what is addressed at lower level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posed Use Cas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perational Us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79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ystem Managemen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nfigur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ploy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9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iagnos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" y="7632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adio Set Main Actor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720" y="1227240"/>
            <a:ext cx="8337600" cy="208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108000" rIns="108000" tIns="54000" bIns="54000" anchor="t">
            <a:normAutofit fontScale="99000"/>
          </a:bodyPr>
          <a:p>
            <a:pPr marL="282960" indent="-282960">
              <a:lnSpc>
                <a:spcPct val="7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an overall actor diagram that describes the relationships between the main system acto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7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ine the main actors using a template that provid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8600" indent="-226080">
              <a:lnSpc>
                <a:spcPct val="79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ctor description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8600" indent="-226080">
              <a:lnSpc>
                <a:spcPct val="79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ist of system functionalities (use cases) in which the actor is involved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8600" indent="-226080">
              <a:lnSpc>
                <a:spcPct val="79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or each functionality, the role of the actor in the system execution of that functionality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7632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adio Set Sub-Packag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87040" y="1963440"/>
            <a:ext cx="7697880" cy="30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108000" rIns="108000" tIns="54000" bIns="54000" anchor="t">
            <a:normAutofit fontScale="90000"/>
          </a:bodyPr>
          <a:p>
            <a:pPr marL="257040" indent="-2570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rationa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79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rtup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79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hutdown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79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figure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79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place Unit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intenanc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79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g related use cases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-2570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curity?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7040" indent="-205560">
              <a:lnSpc>
                <a:spcPct val="79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curity and Manage Security?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" y="7632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in Radio Set Operational Use Cas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87040" y="1963440"/>
            <a:ext cx="7697880" cy="301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108000" rIns="108000" tIns="54000" bIns="5400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eption (Rx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mission (Tx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gu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nfigure Softwar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nfigure Radio Se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wnloa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ifferent types of download?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" y="7632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X Use Case Descriptio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39720" y="966960"/>
          <a:ext cx="8029440" cy="56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966960"/>
                    <a:ext cx="802944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50000">
              <a:srgbClr val="0033cc"/>
            </a:gs>
            <a:gs pos="100000">
              <a:srgbClr val="00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" y="76320"/>
            <a:ext cx="9132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X Use Case Descriptio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830160" y="1095480"/>
          <a:ext cx="7334280" cy="526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1095480"/>
                    <a:ext cx="733428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17T06:11:35Z</dcterms:created>
  <dc:creator>Louis Nel</dc:creator>
  <dc:description/>
  <dc:language>en-US</dc:language>
  <cp:lastModifiedBy>Francis Bordeleau</cp:lastModifiedBy>
  <cp:lastPrinted>2000-03-14T03:14:00Z</cp:lastPrinted>
  <dcterms:modified xsi:type="dcterms:W3CDTF">2003-01-31T07:20:11Z</dcterms:modified>
  <cp:revision>128</cp:revision>
  <dc:subject/>
  <dc:title>No Slide Title</dc:title>
</cp:coreProperties>
</file>