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7F58-6254-45E3-8013-03C38FE58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65D0-C3ED-40F5-84D9-A31E0D991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A7DC-A667-413B-A849-2EA05854D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824D-F67C-4724-94DD-EDE814559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4F19-137A-45BC-AD03-45EE577FE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2158-44B5-4B64-94FD-64F6E341E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6B15-8716-47CE-9394-A128588F7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DE10-F32A-4B61-831E-32B8608A3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BBE9-B958-46CC-838F-E1DBF585B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0F6B-462D-4284-B4EF-E4079E27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6C0F-DB58-42F8-8654-E0A578B6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3EAF-794C-4CA7-9907-6DCA1C20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0C20F-5172-485A-86CA-94BA058C9A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839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lights from this Meet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2480" indent="-1620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loyment and Configuration of Component-based Applications revised submission and presentation; status/refining/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2480" indent="-1620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ghtweight CCM initial submission and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2480" indent="-1620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 Radio waveform characteristics, viewpoints, use cases and spec assign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2480" indent="-1620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wer Management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2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2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4572000" y="228240"/>
            <a:ext cx="0" cy="1143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0" y="152280"/>
            <a:ext cx="4572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C Meeting Date: 28 March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ing chair: J. Smi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up page (URL): swradio.omg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up email: swradio@omg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5840" y="6400800"/>
            <a:ext cx="302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MG TC Status Report , Version 1.1a, omg/2000-12-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57200"/>
            <a:ext cx="4065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Radio DS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52280" y="1447560"/>
            <a:ext cx="88394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09520" indent="-209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iverables from this Meet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5680" indent="-219960">
              <a:lnSpc>
                <a:spcPct val="90000"/>
              </a:lnSpc>
              <a:spcBef>
                <a:spcPts val="45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Arial"/>
              </a:rPr>
              <a:t>Deployment and Configuration Revised Sub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5680" indent="-219960">
              <a:lnSpc>
                <a:spcPct val="90000"/>
              </a:lnSpc>
              <a:spcBef>
                <a:spcPts val="45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Arial"/>
              </a:rPr>
              <a:t>Lightweight CCM Initial Sub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5680" indent="-219960">
              <a:lnSpc>
                <a:spcPct val="90000"/>
              </a:lnSpc>
              <a:spcBef>
                <a:spcPts val="45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Arial"/>
              </a:rPr>
              <a:t>Waveform characteristics check on use c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5680" indent="-219960">
              <a:lnSpc>
                <a:spcPct val="90000"/>
              </a:lnSpc>
              <a:spcBef>
                <a:spcPts val="45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Arial"/>
              </a:rPr>
              <a:t>Papers on waveforms and protocol sta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5680" indent="-219960">
              <a:lnSpc>
                <a:spcPct val="90000"/>
              </a:lnSpc>
              <a:spcBef>
                <a:spcPts val="45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Arial"/>
              </a:rPr>
              <a:t>SCA Viewpo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5680" indent="-219960">
              <a:lnSpc>
                <a:spcPct val="90000"/>
              </a:lnSpc>
              <a:spcBef>
                <a:spcPts val="45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Arial"/>
              </a:rPr>
              <a:t>Waveform, radio mgmt, security, fault mgmt, performance monitoring use c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5680" indent="-219960">
              <a:lnSpc>
                <a:spcPct val="90000"/>
              </a:lnSpc>
              <a:spcBef>
                <a:spcPts val="45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Arial"/>
              </a:rPr>
              <a:t>Updated SW Radio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5680" indent="-219960">
              <a:lnSpc>
                <a:spcPct val="90000"/>
              </a:lnSpc>
              <a:spcBef>
                <a:spcPts val="45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Arial"/>
              </a:rPr>
              <a:t>Power Management presentation from RT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9520" indent="-209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ture Deliverables (In-Process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568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loyment and Configuration PSM for Embedded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568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R Submission (Updated PIM and PS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568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weight Services Revised Sub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568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weight CCM Revised Sub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9520" indent="-209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enda Items for the Paris Meet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568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, update and working session for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48320" y="1752480"/>
            <a:ext cx="39621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576360" indent="-236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152280"/>
            <a:ext cx="3886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4572000" y="228240"/>
            <a:ext cx="0" cy="1143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5840" y="6400800"/>
            <a:ext cx="302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MG TC Status Report , Version 1.1a, omg/2000-12-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152280"/>
            <a:ext cx="4572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C Meeting Date: 28 March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ing chair: J. Smi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up page (URL): swradio.omg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up email: swradio@omg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57200"/>
            <a:ext cx="4065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Radio DS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2T15:58:21Z</dcterms:created>
  <dc:creator>Wayne Haughey</dc:creator>
  <dc:description/>
  <dc:language>en-US</dc:language>
  <cp:lastModifiedBy>Alfred E. Neumann</cp:lastModifiedBy>
  <dcterms:modified xsi:type="dcterms:W3CDTF">2003-03-27T14:54:27Z</dcterms:modified>
  <cp:revision>54</cp:revision>
  <dc:subject/>
  <dc:title>{TF/SIG/WG/SC Name Here}</dc:title>
</cp:coreProperties>
</file>