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28880" cy="34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1120320" y="4414680"/>
            <a:ext cx="4559400" cy="4183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32600"/>
            <a:ext cx="297324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832600"/>
            <a:ext cx="297324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FCB70AB-4709-4E50-969B-165AC1E971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14560" y="704880"/>
            <a:ext cx="4628880" cy="34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20320" y="4414680"/>
            <a:ext cx="4559400" cy="4183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itial Ideas are being developed by Rockwell Collins DARPA PAC/C projec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945F-F071-40A0-812F-6EE4516C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235B-9135-4E1A-999E-77CF4C4D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9F77-3662-4983-9F24-E995A86A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848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240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3037-352D-4B05-A6BF-E8FEC959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2F9E9-5022-4FDC-B4F8-A8F7FC4E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E767F-3268-412F-9F3A-D64B1083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C4029-1E5B-4A07-B752-0F1D94B8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C3D2D-9094-4741-ADD2-6B23E12B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91E7A-AEA6-4CE7-8E05-D7BD9B58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62481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AF441-8D8A-4C6A-872B-73342E76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98E8A-A62E-498E-AE9B-AAB53D52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AB3D-5ACC-4A95-A721-E37E6FBE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050F6-D770-48FC-96CB-22D06D92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E82CB-7A2E-41C4-854E-0A1E194B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9886D-CD0C-4546-AB41-932698C4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4F318-974C-42E7-9621-8AD27F2B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56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3848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2400" y="396540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CD295-83E5-4AF2-9ED8-88891EA5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2E2C7-9238-4916-8104-8B2E9B6E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6F86-EB9E-4150-A614-33516A68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E0A9-E5DF-4358-A736-E42C7EF1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62481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5D558-FFF1-46A1-B97D-6B5FDDEF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8962-87C9-4767-8114-2105EEA1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9720" y="39654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A1189-356C-4631-B54A-EE4C3A70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96540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87C0-972D-4811-AAC2-A7C6EFF5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SzPct val="125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1" marL="573120" indent="-23328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SzPct val="125000"/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2" marL="915840" indent="-22860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3" marL="1258920" indent="-22860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4" marL="2057400" indent="-22860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5" marL="2057400" indent="-22860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6" marL="2057400" indent="-22860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28600" y="6476760"/>
            <a:ext cx="1905120" cy="19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360" bIns="9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9D7A89-1D5E-4320-881E-EAE49EE819E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718160" y="6476760"/>
            <a:ext cx="404496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llins Advanced Technology Center - June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23796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AF83-F52F-4C9E-BD27-5ABE799EE31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52280"/>
            <a:ext cx="8534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354120" y="6500880"/>
            <a:ext cx="1792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ckwell Collins 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1143000"/>
            <a:ext cx="6934320" cy="0"/>
          </a:xfrm>
          <a:prstGeom prst="line">
            <a:avLst/>
          </a:prstGeom>
          <a:ln w="3168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360" bIns="9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B8F83F-2E84-4C97-926B-F2CE0047460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llins Advanced Technology Center - June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1187-D550-4185-8FEB-696498F3248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52280"/>
            <a:ext cx="8534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4120" y="6500880"/>
            <a:ext cx="1792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ckwell Collins 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1" marL="339840" indent="0" algn="ctr"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2" marL="687240" algn="ctr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Tempus Sans IT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3" marL="1030320" algn="ctr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Tempus Sans IT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5335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ower Aware Distributed Compu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733920"/>
            <a:ext cx="4800600" cy="19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ckwell Collins Advanced Technology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vanced Compu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ted By:  David Haverk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-Mail: dahaverk@rockwellcollin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State of Power Aware Compu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SzPct val="125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Typical Embedded and Mobile processors have Power Save Capabilities</a:t>
            </a: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1" marL="573120" indent="-23328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SzPct val="125000"/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Sleep mode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1" marL="573120" indent="-23328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SzPct val="125000"/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Hibernate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1" marL="573120" indent="-23328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SzPct val="125000"/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Suspend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marL="225360" indent="-22536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SzPct val="125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uProcessors can do:</a:t>
            </a: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1" marL="573120" indent="-23328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SzPct val="125000"/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Dynamic Voltage and Frequency Scaling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3" marL="1258920" indent="-228600">
              <a:buClr>
                <a:srgbClr val="000000"/>
              </a:buClr>
              <a:buFont typeface="Tempus Sans IT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Transmeta - Crusoe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3" marL="1258920" indent="-228600">
              <a:buClr>
                <a:srgbClr val="000000"/>
              </a:buClr>
              <a:buFont typeface="Tempus Sans IT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Intel - StrongARM and XScale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3" marL="1258920" indent="-228600">
              <a:buClr>
                <a:srgbClr val="000000"/>
              </a:buClr>
              <a:buFont typeface="Tempus Sans IT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IBM - PowerPC 405LP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1" marL="573120" indent="-233280">
              <a:buClr>
                <a:srgbClr val="000000"/>
              </a:buClr>
              <a:buSzPct val="125000"/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Some power management is more appropriate for automatic compiler insertion in low-level assembly.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2" marL="915840" indent="-228600">
              <a:buClr>
                <a:srgbClr val="000000"/>
              </a:buClr>
              <a:buFont typeface="Tempus Sans IT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E.g. floating point is not used in applications so turn it off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1" marL="57312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VSI AFE #1 Quarterly Progress Report 2/1/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3C7F4-0A2E-4D37-A3E3-BA3F96A5405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 Management via 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16000" indent="-21600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SzPct val="125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Like network QoS can manage power across system</a:t>
            </a: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marL="216000" indent="-21600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SzPct val="125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Typical Embedded systems such as Software Radio are composed of many system processors</a:t>
            </a: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marL="216000" indent="-21600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SzPct val="125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CORBA interfaces for Power Management allow a global power management scheme to be applied</a:t>
            </a: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marL="216000" indent="-21600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SzPct val="125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System goals that can be met by having power management</a:t>
            </a: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1" marL="550080" indent="-223920">
              <a:buClr>
                <a:srgbClr val="000000"/>
              </a:buClr>
              <a:buSzPct val="125000"/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Manage system component usage to reduce or eliminate cooling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2" marL="879120" indent="-219240">
              <a:buClr>
                <a:srgbClr val="000000"/>
              </a:buClr>
              <a:buFont typeface="Tempus Sans IT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E.g. Suspend “standby” or shutdown processors not being used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1" marL="550080" indent="-223920">
              <a:buClr>
                <a:srgbClr val="000000"/>
              </a:buClr>
              <a:buSzPct val="125000"/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Manage system to provide the optimal performance for the task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2" marL="879120" indent="-219240">
              <a:buClr>
                <a:srgbClr val="000000"/>
              </a:buClr>
              <a:buFont typeface="Tempus Sans IT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E.g. frequency/Clock manipulations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marL="216000" indent="-216000">
              <a:buClr>
                <a:srgbClr val="000000"/>
              </a:buClr>
              <a:buSzPct val="125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Power Management via CORBA allows for an Abstract view of the underlying system</a:t>
            </a: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1" marL="550080" indent="-223920">
              <a:buClr>
                <a:srgbClr val="000000"/>
              </a:buClr>
              <a:buSzPct val="125000"/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Distributed Embedded systems will have multiple OS’es and dissimilar uProcessors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2" marL="879120" indent="-219240">
              <a:buClr>
                <a:srgbClr val="000000"/>
              </a:buClr>
              <a:buFont typeface="Tempus Sans IT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E.g. PPC, DSP, x86, StrongARM, etc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VSI AFE #1 Quarterly Progress Report 2/1/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6057-2DCD-4D11-A536-15AA7A64093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MG Interested 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SzPct val="125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RTESS  Platform -- Embedded Systems Working Group</a:t>
            </a: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marL="225360" indent="-22536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SzPct val="125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Software Radio Domain</a:t>
            </a: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marL="225360" indent="-22536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SzPct val="125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Telecom Domain</a:t>
            </a: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marL="225360" indent="-22536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SzPct val="125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Super Distributed Objects Group  Domain</a:t>
            </a:r>
            <a:endParaRPr b="1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VSI AFE #1 Quarterly Progress Report 2/1/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9331-504F-41F8-9653-48FDFBDD274A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00:41:18Z</dcterms:created>
  <dc:creator>Gary Daugherty</dc:creator>
  <dc:description/>
  <dc:language>en-US</dc:language>
  <cp:lastModifiedBy>Alfred E. Neumann</cp:lastModifiedBy>
  <cp:lastPrinted>2002-12-03T21:04:19Z</cp:lastPrinted>
  <dcterms:modified xsi:type="dcterms:W3CDTF">2003-03-27T14:58:02Z</dcterms:modified>
  <cp:revision>627</cp:revision>
  <dc:subject/>
  <dc:title>AerospaceVehicle Systems Initiative (AVSI) Cooperative Structure </dc:title>
</cp:coreProperties>
</file>