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11400" cy="458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935160" y="0"/>
            <a:ext cx="3011400" cy="458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66400" y="695160"/>
            <a:ext cx="4614840" cy="346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 Black"/>
              </a:rPr>
              <a:t>Click to move the slide</a:t>
            </a:r>
            <a:endParaRPr b="0" lang="en-US" sz="4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5200" y="4384440"/>
            <a:ext cx="5095800" cy="4152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8774280"/>
            <a:ext cx="3011400" cy="458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935160" y="8774280"/>
            <a:ext cx="3011400" cy="458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F05E49-9CAA-4BE9-8805-692FDE508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use layer par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athered from multiple wave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ify/standardize parts of parts of waveforms (see Jean Belzile, http://groups/.yahoo.com/srrad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ocol translator between 3-d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use physical interfaces for multiple freq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an has continued our work, dividing by OSI 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6821D-070D-4E57-AC54-244814F234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543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4190760"/>
            <a:ext cx="7543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3A18F-BAD8-428F-8ED1-0BE0FA7CF2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7972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19076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79720" y="419076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1E08A-0C7E-4102-B056-30A2B1DAE9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4640" y="152388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5600" y="152388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419076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4640" y="419076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5600" y="419076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128E6-4B4F-421C-88AC-40051874A6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4040" y="15238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681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79720" y="1523880"/>
            <a:ext cx="3681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76520" y="47160"/>
            <a:ext cx="7238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1523880"/>
            <a:ext cx="3681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4040" y="419076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15238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04838-98C7-40E6-8CCE-F549401CEC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681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79720" y="419076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72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4190760"/>
            <a:ext cx="7543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543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14040" y="4190760"/>
            <a:ext cx="7543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7972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040" y="419076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79720" y="419076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64640" y="152388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5600" y="152388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14040" y="419076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64640" y="419076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5600" y="419076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88620-3C4C-4C66-818C-8105C07A6E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681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79720" y="1523880"/>
            <a:ext cx="3681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ADFBE-9C56-41D8-B4BB-FEF9CC3D9B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304D0-ED7E-4A83-8F1A-694EAC58E0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47160"/>
            <a:ext cx="7238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0D37B-2086-4E87-AF16-9E20A12DAD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79720" y="1523880"/>
            <a:ext cx="3681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419076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F26E9-A20A-455A-98F4-69F892DBEB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681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972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79720" y="419076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88C26-4870-479B-BEE1-2C5AED1247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7972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190760"/>
            <a:ext cx="7543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BD3AB-2F38-46A6-A6C6-DCCE172A21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mercury%20template%20final%20body%20rev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914040" y="15238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343400" y="6629040"/>
            <a:ext cx="1295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AE48-A086-49D7-B127-211F868C80DE}" type="slidenum">
              <a:rPr b="0" lang="en-US" sz="9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Mercury%20Logo%20with%20tag%20line%20for%20Powerpoint" descr=""/>
          <p:cNvPicPr/>
          <p:nvPr/>
        </p:nvPicPr>
        <p:blipFill>
          <a:blip r:embed="rId3"/>
          <a:stretch/>
        </p:blipFill>
        <p:spPr>
          <a:xfrm>
            <a:off x="76320" y="152280"/>
            <a:ext cx="1523880" cy="55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177680" y="6694560"/>
            <a:ext cx="203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99"/>
                </a:solidFill>
                <a:latin typeface="Arial"/>
              </a:rPr>
              <a:t>© 2003 Mercury Computer Systems, Inc.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final%20template%20graphic%204_17_00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80720" y="2514240"/>
            <a:ext cx="678204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7114320" y="6643800"/>
            <a:ext cx="203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99"/>
                </a:solidFill>
                <a:latin typeface="Arial"/>
              </a:rPr>
              <a:t>© 2003 Mercury Computer Systems, Inc.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70120" y="6299280"/>
            <a:ext cx="5094360" cy="26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doc.html" TargetMode="External"/><Relationship Id="rId2" Type="http://schemas.openxmlformats.org/officeDocument/2006/relationships/hyperlink" Target="http://www.ece.neu.edu/~mbicer/Mobilecom/doc.html" TargetMode="External"/><Relationship Id="rId3" Type="http://schemas.openxmlformats.org/officeDocument/2006/relationships/hyperlink" Target="http://jtrs.army.mil/" TargetMode="External"/><Relationship Id="rId4" Type="http://schemas.openxmlformats.org/officeDocument/2006/relationships/hyperlink" Target="http://jtrs.army.mil/" TargetMode="External"/><Relationship Id="rId5" Type="http://schemas.openxmlformats.org/officeDocument/2006/relationships/hyperlink" Target="http://jtrs.army.mil/" TargetMode="External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0720" y="2514240"/>
            <a:ext cx="678204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 Black"/>
              </a:rPr>
              <a:t>Waveform Characteristics</a:t>
            </a:r>
            <a:endParaRPr b="0" lang="en-US" sz="4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6196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Jeff Smith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March 26, 2003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99"/>
                </a:solidFill>
                <a:latin typeface="Arial"/>
                <a:ea typeface="Times New Roman"/>
              </a:rPr>
              <a:t>the ability to set and read performance criteria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– QO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99"/>
                </a:solidFill>
                <a:latin typeface="Arial"/>
                <a:ea typeface="Times New Roman"/>
              </a:rPr>
              <a:t>the ability to set and read a baud rat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– timing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99"/>
                </a:solidFill>
                <a:latin typeface="Arial"/>
                <a:ea typeface="Times New Roman"/>
              </a:rPr>
              <a:t>the ability to set and read a radiation pattern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– transducter respons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99"/>
                </a:solidFill>
                <a:latin typeface="Arial"/>
                <a:ea typeface="Times New Roman"/>
              </a:rPr>
              <a:t>then the ability to set and read a power setting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– Amplificatio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…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3B929-44BE-497F-9E4E-509A82C7DC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Physical layer class diagram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83348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6" name="physical%20class%20diagram" descr=""/>
          <p:cNvPicPr/>
          <p:nvPr/>
        </p:nvPicPr>
        <p:blipFill>
          <a:blip r:embed="rId1"/>
          <a:stretch/>
        </p:blipFill>
        <p:spPr>
          <a:xfrm>
            <a:off x="1274760" y="914400"/>
            <a:ext cx="6772320" cy="57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64CFE-7715-4ACE-AD5B-E765DC0841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Data link layer class diagram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82880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9" name="data%20link%20class%20diagram" descr=""/>
          <p:cNvPicPr/>
          <p:nvPr/>
        </p:nvPicPr>
        <p:blipFill>
          <a:blip r:embed="rId1"/>
          <a:stretch/>
        </p:blipFill>
        <p:spPr>
          <a:xfrm>
            <a:off x="990720" y="382680"/>
            <a:ext cx="7010280" cy="647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6118F-4FBD-471E-BA1B-2F93149DB9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aracteristic Constraints can Partitioned for Parallel Optimization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46280" y="1082520"/>
            <a:ext cx="8232480" cy="54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 waveform space of N dimensions can be represented as, </a:t>
            </a:r>
            <a:r>
              <a:rPr b="0" lang="en-US" sz="3200" spc="-1" strike="noStrike">
                <a:solidFill>
                  <a:srgbClr val="003366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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,x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, … ,x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}, where the set of N vectors need to be determined according to the constraint set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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 waveform may be represented as p(x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(3),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x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2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(5),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x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3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(2)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, …, x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N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(6)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) = true,  s.t. constraints e.g. dead-end, aggregation, etc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he optimal waveform is found by choosing the parameters that minimize the cost function </a:t>
            </a:r>
            <a:r>
              <a:rPr b="0" lang="en-US" sz="2800" spc="-1" strike="noStrike">
                <a:solidFill>
                  <a:srgbClr val="003366"/>
                </a:solidFill>
                <a:latin typeface="Monotype Corsiva"/>
              </a:rPr>
              <a:t>J( .) </a:t>
            </a:r>
            <a:r>
              <a:rPr b="0" lang="en-US" sz="2000" spc="-1" strike="noStrike">
                <a:solidFill>
                  <a:srgbClr val="0033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.t.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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uch that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Symbol"/>
                <a:ea typeface="Symbol"/>
              </a:rPr>
              <a:t>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opt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= 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{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rg min </a:t>
            </a:r>
            <a:r>
              <a:rPr b="0" lang="en-US" sz="2800" spc="-1" strike="noStrike">
                <a:solidFill>
                  <a:srgbClr val="003366"/>
                </a:solidFill>
                <a:latin typeface="Monotype Corsiva"/>
              </a:rPr>
              <a:t>J( </a:t>
            </a:r>
            <a:r>
              <a:rPr b="0" lang="en-US" sz="3200" spc="-1" strike="noStrike">
                <a:solidFill>
                  <a:srgbClr val="003366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3366"/>
                </a:solidFill>
                <a:latin typeface="Monotype Corsiva"/>
              </a:rPr>
              <a:t>) </a:t>
            </a:r>
            <a:r>
              <a:rPr b="0" lang="en-US" sz="4800" spc="-1" strike="noStrike">
                <a:solidFill>
                  <a:srgbClr val="003366"/>
                </a:solidFill>
                <a:latin typeface="Monotype Corsiva"/>
              </a:rPr>
              <a:t>|</a:t>
            </a:r>
            <a:r>
              <a:rPr b="0" lang="en-US" sz="3600" spc="-1" strike="noStrike" baseline="-25000">
                <a:solidFill>
                  <a:srgbClr val="003366"/>
                </a:solidFill>
                <a:latin typeface="Symbol"/>
                <a:ea typeface="Symbol"/>
              </a:rPr>
              <a:t></a:t>
            </a:r>
            <a:r>
              <a:rPr b="0" lang="en-US" sz="1800" spc="-1" strike="noStrike" baseline="-75000">
                <a:solidFill>
                  <a:srgbClr val="003366"/>
                </a:solidFill>
                <a:latin typeface="Symbol"/>
                <a:ea typeface="Symbol"/>
              </a:rPr>
              <a:t></a:t>
            </a:r>
            <a:r>
              <a:rPr b="0" lang="en-US" sz="3600" spc="-1" strike="noStrike" baseline="-25000">
                <a:solidFill>
                  <a:srgbClr val="003366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003366"/>
                </a:solidFill>
                <a:latin typeface="Monotype Corsiva"/>
              </a:rPr>
              <a:t>,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rg min </a:t>
            </a:r>
            <a:r>
              <a:rPr b="0" lang="en-US" sz="2800" spc="-1" strike="noStrike">
                <a:solidFill>
                  <a:srgbClr val="003366"/>
                </a:solidFill>
                <a:latin typeface="Monotype Corsiva"/>
              </a:rPr>
              <a:t>J( </a:t>
            </a:r>
            <a:r>
              <a:rPr b="0" lang="en-US" sz="3200" spc="-1" strike="noStrike">
                <a:solidFill>
                  <a:srgbClr val="003366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3366"/>
                </a:solidFill>
                <a:latin typeface="Monotype Corsiva"/>
              </a:rPr>
              <a:t>) </a:t>
            </a:r>
            <a:r>
              <a:rPr b="0" lang="en-US" sz="4800" spc="-1" strike="noStrike">
                <a:solidFill>
                  <a:srgbClr val="003366"/>
                </a:solidFill>
                <a:latin typeface="Monotype Corsiva"/>
              </a:rPr>
              <a:t>|</a:t>
            </a:r>
            <a:r>
              <a:rPr b="0" lang="en-US" sz="3600" spc="-1" strike="noStrike" baseline="-25000">
                <a:solidFill>
                  <a:srgbClr val="003366"/>
                </a:solidFill>
                <a:latin typeface="Symbol"/>
                <a:ea typeface="Symbol"/>
              </a:rPr>
              <a:t></a:t>
            </a:r>
            <a:r>
              <a:rPr b="0" lang="en-US" sz="1800" spc="-1" strike="noStrike" baseline="-75000">
                <a:solidFill>
                  <a:srgbClr val="003366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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},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                                   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1                                               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2                   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.t.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are independent, mutually exclusive &amp; cover all constraints, partitions P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are therefore mutually exclusive where,  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Monotype Corsiva"/>
              </a:rPr>
              <a:t>                                </a:t>
            </a:r>
            <a:r>
              <a:rPr b="0" lang="en-US" sz="2800" spc="-1" strike="noStrike">
                <a:solidFill>
                  <a:srgbClr val="003366"/>
                </a:solidFill>
                <a:latin typeface="Monotype Corsiva"/>
              </a:rPr>
              <a:t>J( </a:t>
            </a:r>
            <a:r>
              <a:rPr b="0" lang="en-US" sz="3200" spc="-1" strike="noStrike">
                <a:solidFill>
                  <a:srgbClr val="003366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3366"/>
                </a:solidFill>
                <a:latin typeface="Monotype Corsiva"/>
              </a:rPr>
              <a:t>) </a:t>
            </a:r>
            <a:r>
              <a:rPr b="0" lang="en-US" sz="4800" spc="-1" strike="noStrike">
                <a:solidFill>
                  <a:srgbClr val="003366"/>
                </a:solidFill>
                <a:latin typeface="Monotype Corsiva"/>
              </a:rPr>
              <a:t>|</a:t>
            </a:r>
            <a:r>
              <a:rPr b="0" lang="en-US" sz="3600" spc="-1" strike="noStrike" baseline="-25000">
                <a:solidFill>
                  <a:srgbClr val="003366"/>
                </a:solidFill>
                <a:latin typeface="Symbol"/>
                <a:ea typeface="Symbol"/>
              </a:rPr>
              <a:t></a:t>
            </a:r>
            <a:r>
              <a:rPr b="0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</a:t>
            </a: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003366"/>
                </a:solidFill>
                <a:latin typeface="Monotype Corsiva"/>
              </a:rPr>
              <a:t>J(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3366"/>
                </a:solidFill>
                <a:latin typeface="Monotype Corsiva"/>
              </a:rPr>
              <a:t>) </a:t>
            </a:r>
            <a:r>
              <a:rPr b="0" lang="en-US" sz="4800" spc="-1" strike="noStrike">
                <a:solidFill>
                  <a:srgbClr val="003366"/>
                </a:solidFill>
                <a:latin typeface="Monotype Corsiva"/>
              </a:rPr>
              <a:t>|</a:t>
            </a:r>
            <a:r>
              <a:rPr b="0" lang="en-US" sz="3600" spc="-1" strike="noStrike" baseline="-25000">
                <a:solidFill>
                  <a:srgbClr val="003366"/>
                </a:solidFill>
                <a:latin typeface="Symbol"/>
                <a:ea typeface="Symbol"/>
              </a:rPr>
              <a:t></a:t>
            </a:r>
            <a:r>
              <a:rPr b="0" lang="en-US" sz="2000" spc="-1" strike="noStrike" baseline="-40000">
                <a:solidFill>
                  <a:srgbClr val="003366"/>
                </a:solidFill>
                <a:latin typeface="Times New Roman"/>
              </a:rPr>
              <a:t>j</a:t>
            </a:r>
            <a:r>
              <a:rPr b="0" lang="en-US" sz="3600" spc="-1" strike="noStrike" baseline="-25000">
                <a:solidFill>
                  <a:srgbClr val="003366"/>
                </a:solidFill>
                <a:latin typeface="Symbol"/>
                <a:ea typeface="Symbol"/>
              </a:rPr>
              <a:t>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419960" y="1386000"/>
            <a:ext cx="142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705800" y="1386000"/>
            <a:ext cx="142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420040" y="1376280"/>
            <a:ext cx="142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16200000">
            <a:off x="3635280" y="3180960"/>
            <a:ext cx="142920" cy="2228760"/>
          </a:xfrm>
          <a:custGeom>
            <a:avLst/>
            <a:gdLst>
              <a:gd name="textAreaLeft" fmla="*/ 91440 w 142920"/>
              <a:gd name="textAreaRight" fmla="*/ 143280 w 142920"/>
              <a:gd name="textAreaTop" fmla="*/ 57960 h 2228760"/>
              <a:gd name="textAreaBottom" fmla="*/ 2170800 h 2228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99"/>
                </a:lnTo>
                <a:cubicBezTo>
                  <a:pt x="10800" y="9699"/>
                  <a:pt x="5400" y="10599"/>
                  <a:pt x="0" y="10599"/>
                </a:cubicBezTo>
                <a:cubicBezTo>
                  <a:pt x="5400" y="10599"/>
                  <a:pt x="10800" y="11499"/>
                  <a:pt x="10800" y="123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16200000">
            <a:off x="6006960" y="3219120"/>
            <a:ext cx="142920" cy="2171520"/>
          </a:xfrm>
          <a:custGeom>
            <a:avLst/>
            <a:gdLst>
              <a:gd name="textAreaLeft" fmla="*/ 91440 w 142920"/>
              <a:gd name="textAreaRight" fmla="*/ 143280 w 142920"/>
              <a:gd name="textAreaTop" fmla="*/ 56520 h 2171520"/>
              <a:gd name="textAreaBottom" fmla="*/ 2115000 h 217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99"/>
                </a:lnTo>
                <a:cubicBezTo>
                  <a:pt x="10800" y="9699"/>
                  <a:pt x="5400" y="10599"/>
                  <a:pt x="0" y="10599"/>
                </a:cubicBezTo>
                <a:cubicBezTo>
                  <a:pt x="5400" y="10599"/>
                  <a:pt x="10800" y="11499"/>
                  <a:pt x="10800" y="123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823280" y="5875200"/>
            <a:ext cx="42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=1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16200000">
            <a:off x="7272360" y="4157640"/>
            <a:ext cx="123840" cy="238320"/>
          </a:xfrm>
          <a:custGeom>
            <a:avLst/>
            <a:gdLst>
              <a:gd name="textAreaLeft" fmla="*/ 79200 w 123840"/>
              <a:gd name="textAreaRight" fmla="*/ 124200 w 123840"/>
              <a:gd name="textAreaTop" fmla="*/ 6120 h 238320"/>
              <a:gd name="textAreaBottom" fmla="*/ 232200 h 23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99"/>
                </a:lnTo>
                <a:cubicBezTo>
                  <a:pt x="10800" y="9699"/>
                  <a:pt x="5400" y="10599"/>
                  <a:pt x="0" y="10599"/>
                </a:cubicBezTo>
                <a:cubicBezTo>
                  <a:pt x="5400" y="10599"/>
                  <a:pt x="10800" y="11499"/>
                  <a:pt x="10800" y="123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52800" y="542448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15017-8DEA-4EF4-9DF0-021101A948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71600" y="-20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Reformulation of Problem…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1150920" y="938160"/>
            <a:ext cx="7529400" cy="2579040"/>
            <a:chOff x="1150920" y="938160"/>
            <a:chExt cx="7529400" cy="2579040"/>
          </a:xfrm>
        </p:grpSpPr>
        <p:sp>
          <p:nvSpPr>
            <p:cNvPr id="382" name=""/>
            <p:cNvSpPr/>
            <p:nvPr/>
          </p:nvSpPr>
          <p:spPr>
            <a:xfrm>
              <a:off x="1150920" y="938160"/>
              <a:ext cx="7529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401840" y="1104840"/>
              <a:ext cx="7053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 Black"/>
                </a:rPr>
                <a:t>1. The relationship between every possible building block can be seen as a mesh network, where a connected line means an “allowed path” between two nodes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3114360" y="2017800"/>
              <a:ext cx="2079720" cy="1499400"/>
              <a:chOff x="3114360" y="2017800"/>
              <a:chExt cx="2079720" cy="1499400"/>
            </a:xfrm>
          </p:grpSpPr>
          <p:sp>
            <p:nvSpPr>
              <p:cNvPr id="385" name=""/>
              <p:cNvSpPr/>
              <p:nvPr/>
            </p:nvSpPr>
            <p:spPr>
              <a:xfrm>
                <a:off x="4707720" y="2037600"/>
                <a:ext cx="95040" cy="80280"/>
              </a:xfrm>
              <a:prstGeom prst="ellipse">
                <a:avLst/>
              </a:prstGeom>
              <a:solidFill>
                <a:srgbClr val="3366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4291920" y="2057760"/>
                <a:ext cx="474840" cy="52164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245480" y="2539440"/>
                <a:ext cx="94320" cy="80280"/>
              </a:xfrm>
              <a:prstGeom prst="ellipse">
                <a:avLst/>
              </a:prstGeom>
              <a:solidFill>
                <a:srgbClr val="3366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257000" y="2539440"/>
                <a:ext cx="95040" cy="80280"/>
              </a:xfrm>
              <a:prstGeom prst="ellipse">
                <a:avLst/>
              </a:prstGeom>
              <a:solidFill>
                <a:srgbClr val="3366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3948120" y="2559600"/>
                <a:ext cx="367560" cy="58176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328280" y="2589840"/>
                <a:ext cx="865800" cy="51156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900960" y="3131280"/>
                <a:ext cx="95040" cy="80280"/>
              </a:xfrm>
              <a:prstGeom prst="ellipse">
                <a:avLst/>
              </a:prstGeom>
              <a:solidFill>
                <a:srgbClr val="3366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889440" y="3141720"/>
                <a:ext cx="94320" cy="79920"/>
              </a:xfrm>
              <a:prstGeom prst="ellipse">
                <a:avLst/>
              </a:prstGeom>
              <a:solidFill>
                <a:srgbClr val="3366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900960" y="3141720"/>
                <a:ext cx="95040" cy="79920"/>
              </a:xfrm>
              <a:prstGeom prst="ellipse">
                <a:avLst/>
              </a:prstGeom>
              <a:solidFill>
                <a:srgbClr val="3366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889440" y="2017800"/>
                <a:ext cx="94320" cy="80280"/>
              </a:xfrm>
              <a:prstGeom prst="ellipse">
                <a:avLst/>
              </a:prstGeom>
              <a:solidFill>
                <a:srgbClr val="3366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099400" y="3051360"/>
                <a:ext cx="94320" cy="79920"/>
              </a:xfrm>
              <a:prstGeom prst="ellipse">
                <a:avLst/>
              </a:prstGeom>
              <a:solidFill>
                <a:srgbClr val="3366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3948480" y="3090960"/>
                <a:ext cx="1198080" cy="9036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272400" y="2569680"/>
                <a:ext cx="95040" cy="79920"/>
              </a:xfrm>
              <a:prstGeom prst="ellipse">
                <a:avLst/>
              </a:prstGeom>
              <a:solidFill>
                <a:srgbClr val="3366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307680" y="2599560"/>
                <a:ext cx="628920" cy="5716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>
                <a:off x="3319920" y="2057400"/>
                <a:ext cx="628560" cy="53172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948480" y="2048040"/>
                <a:ext cx="782640" cy="3996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3319560" y="2559600"/>
                <a:ext cx="960840" cy="3996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 flipV="1">
                <a:off x="3936600" y="2067840"/>
                <a:ext cx="343800" cy="5014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28280" y="2417400"/>
                <a:ext cx="491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Arial Black"/>
                  </a:rPr>
                  <a:t>A/D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114360" y="3210120"/>
                <a:ext cx="126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Arial Black"/>
                  </a:rPr>
                  <a:t>Access mode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 flipV="1">
                <a:off x="3920760" y="2050920"/>
                <a:ext cx="29520" cy="11250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 flipV="1">
                <a:off x="3936960" y="2062440"/>
                <a:ext cx="1211760" cy="10134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3315960" y="2101320"/>
                <a:ext cx="1419480" cy="4996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8" name=""/>
          <p:cNvGrpSpPr/>
          <p:nvPr/>
        </p:nvGrpSpPr>
        <p:grpSpPr>
          <a:xfrm>
            <a:off x="1401840" y="3692520"/>
            <a:ext cx="7074720" cy="2990880"/>
            <a:chOff x="1401840" y="3692520"/>
            <a:chExt cx="7074720" cy="2990880"/>
          </a:xfrm>
        </p:grpSpPr>
        <p:sp>
          <p:nvSpPr>
            <p:cNvPr id="409" name=""/>
            <p:cNvSpPr/>
            <p:nvPr/>
          </p:nvSpPr>
          <p:spPr>
            <a:xfrm>
              <a:off x="3044880" y="4541760"/>
              <a:ext cx="76320" cy="7632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2711520" y="4560840"/>
              <a:ext cx="380880" cy="4953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083040" y="4570560"/>
              <a:ext cx="333360" cy="4762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673360" y="5018040"/>
              <a:ext cx="76320" cy="7632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378240" y="5018040"/>
              <a:ext cx="76320" cy="7632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682720" y="5018040"/>
              <a:ext cx="76320" cy="7632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2435400" y="5037120"/>
              <a:ext cx="295200" cy="552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720880" y="5046840"/>
              <a:ext cx="181080" cy="5997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397240" y="5580000"/>
              <a:ext cx="75960" cy="7632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873520" y="5589720"/>
              <a:ext cx="75960" cy="7596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378240" y="5027760"/>
              <a:ext cx="76320" cy="7596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87600" y="5027760"/>
              <a:ext cx="76320" cy="7596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3244680" y="5046840"/>
              <a:ext cx="190800" cy="5806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425760" y="5056200"/>
              <a:ext cx="247680" cy="5238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06880" y="5570640"/>
              <a:ext cx="75960" cy="7596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4360" y="5580000"/>
              <a:ext cx="76320" cy="7632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387520" y="5589720"/>
              <a:ext cx="76320" cy="7596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397240" y="5589720"/>
              <a:ext cx="75960" cy="7596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2329920" y="5608800"/>
              <a:ext cx="95400" cy="342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435400" y="5618160"/>
              <a:ext cx="85680" cy="343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11560" y="5894280"/>
              <a:ext cx="75960" cy="7632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463840" y="5894280"/>
              <a:ext cx="76320" cy="7632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63800" y="5589720"/>
              <a:ext cx="76320" cy="7596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54440" y="5599080"/>
              <a:ext cx="75960" cy="7632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863800" y="5599080"/>
              <a:ext cx="76320" cy="7632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2796840" y="5618160"/>
              <a:ext cx="95400" cy="343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901960" y="5627520"/>
              <a:ext cx="85680" cy="343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778120" y="5904000"/>
              <a:ext cx="76320" cy="7596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930400" y="5904000"/>
              <a:ext cx="76320" cy="7596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664080" y="5589720"/>
              <a:ext cx="75960" cy="7596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654360" y="5599080"/>
              <a:ext cx="76320" cy="7632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664080" y="5599080"/>
              <a:ext cx="75960" cy="7632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3596760" y="5618160"/>
              <a:ext cx="95400" cy="343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701880" y="5627520"/>
              <a:ext cx="86040" cy="343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78400" y="5904000"/>
              <a:ext cx="75960" cy="7596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730680" y="5904000"/>
              <a:ext cx="76320" cy="7596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206880" y="5580000"/>
              <a:ext cx="75960" cy="7632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197160" y="5589720"/>
              <a:ext cx="76320" cy="7596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206880" y="5589720"/>
              <a:ext cx="75960" cy="7596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3139560" y="5608800"/>
              <a:ext cx="95400" cy="342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244680" y="5618160"/>
              <a:ext cx="86040" cy="343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121200" y="5894280"/>
              <a:ext cx="75960" cy="7632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273480" y="5894280"/>
              <a:ext cx="76320" cy="7632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730920" y="4522680"/>
              <a:ext cx="76320" cy="7632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6397200" y="4541760"/>
              <a:ext cx="381240" cy="4953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69080" y="4551480"/>
              <a:ext cx="333360" cy="4762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59400" y="4998960"/>
              <a:ext cx="76320" cy="7632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064280" y="4998960"/>
              <a:ext cx="76320" cy="7632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369120" y="4998960"/>
              <a:ext cx="75960" cy="7632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6121440" y="5018040"/>
              <a:ext cx="295200" cy="552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407280" y="5027760"/>
              <a:ext cx="180720" cy="5997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083280" y="5560920"/>
              <a:ext cx="76320" cy="7632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559560" y="5570640"/>
              <a:ext cx="76320" cy="7596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064280" y="5008680"/>
              <a:ext cx="76320" cy="7596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074000" y="5008680"/>
              <a:ext cx="75960" cy="7596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6930720" y="5027760"/>
              <a:ext cx="190440" cy="5810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112160" y="5037120"/>
              <a:ext cx="247320" cy="5238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892920" y="5551560"/>
              <a:ext cx="76320" cy="7596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340760" y="5560920"/>
              <a:ext cx="75960" cy="7632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073920" y="5570640"/>
              <a:ext cx="75960" cy="7596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083280" y="5570640"/>
              <a:ext cx="76320" cy="7596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6016680" y="5589720"/>
              <a:ext cx="95040" cy="342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121440" y="5599080"/>
              <a:ext cx="85680" cy="343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997600" y="5875200"/>
              <a:ext cx="76320" cy="7632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149880" y="5875200"/>
              <a:ext cx="76320" cy="7632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550200" y="5570640"/>
              <a:ext cx="75960" cy="7596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540480" y="5580000"/>
              <a:ext cx="76320" cy="7632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550200" y="5580000"/>
              <a:ext cx="75960" cy="7632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6482880" y="5599080"/>
              <a:ext cx="95400" cy="343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588000" y="5608800"/>
              <a:ext cx="85680" cy="342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64160" y="5884920"/>
              <a:ext cx="76320" cy="7632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616800" y="5884920"/>
              <a:ext cx="75960" cy="7632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350120" y="5570640"/>
              <a:ext cx="76320" cy="7596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340760" y="5580000"/>
              <a:ext cx="75960" cy="7632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350120" y="5580000"/>
              <a:ext cx="76320" cy="7632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7283520" y="5599080"/>
              <a:ext cx="95040" cy="343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388280" y="5608800"/>
              <a:ext cx="85680" cy="342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264440" y="5884920"/>
              <a:ext cx="76320" cy="7632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416720" y="5884920"/>
              <a:ext cx="76320" cy="7632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92920" y="5560920"/>
              <a:ext cx="76320" cy="7632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883560" y="5570640"/>
              <a:ext cx="75960" cy="7596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892920" y="5570640"/>
              <a:ext cx="76320" cy="7596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6826320" y="5589720"/>
              <a:ext cx="95040" cy="342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931080" y="5599080"/>
              <a:ext cx="85680" cy="343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807240" y="5875200"/>
              <a:ext cx="76320" cy="7632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959520" y="5875200"/>
              <a:ext cx="76320" cy="7632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903040" y="4292640"/>
              <a:ext cx="38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 Black"/>
                </a:rPr>
                <a:t>All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550920" y="4282920"/>
              <a:ext cx="38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 Black"/>
                </a:rPr>
                <a:t>All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442240" y="4807080"/>
              <a:ext cx="29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 Black"/>
                </a:rPr>
                <a:t>A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387240" y="482616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 Black"/>
                </a:rPr>
                <a:t>D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804640" y="5435640"/>
              <a:ext cx="29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 Black"/>
                </a:rPr>
                <a:t>A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642720" y="5416560"/>
              <a:ext cx="29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 Black"/>
                </a:rPr>
                <a:t>A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292440" y="544500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 Black"/>
                </a:rPr>
                <a:t>D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102080" y="544500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 Black"/>
                </a:rPr>
                <a:t>D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788160" y="4541760"/>
              <a:ext cx="981000" cy="4860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731000" y="4998960"/>
              <a:ext cx="76320" cy="7632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559640" y="4998960"/>
              <a:ext cx="76320" cy="7632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416720" y="4998960"/>
              <a:ext cx="76320" cy="7632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712840" y="4883040"/>
              <a:ext cx="6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 Black"/>
                </a:rPr>
                <a:t>TDMA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425640" y="4883040"/>
              <a:ext cx="6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 Black"/>
                </a:rPr>
                <a:t>FDMA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777800" y="4902120"/>
              <a:ext cx="69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 Black"/>
                </a:rPr>
                <a:t>CDMA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740960" y="5483160"/>
              <a:ext cx="6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 Black"/>
                </a:rPr>
                <a:t>TDMA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720240" y="5473800"/>
              <a:ext cx="6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 Black"/>
                </a:rPr>
                <a:t>FDMA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954080" y="5931000"/>
              <a:ext cx="520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 Black"/>
                </a:rPr>
                <a:t>Info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 Black"/>
                </a:rPr>
                <a:t>Sec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 Black"/>
                </a:rPr>
                <a:t>no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411280" y="5950080"/>
              <a:ext cx="520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 Black"/>
                </a:rPr>
                <a:t>Info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 Black"/>
                </a:rPr>
                <a:t>Sec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 Black"/>
                </a:rPr>
                <a:t>yes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401840" y="3692520"/>
              <a:ext cx="7018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 Black"/>
                </a:rPr>
                <a:t>2. By choosing different root nodes, the mesh network can be viewed as a different tree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731000" y="5008680"/>
              <a:ext cx="76320" cy="7596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731000" y="5018040"/>
              <a:ext cx="76320" cy="7632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740720" y="5018040"/>
              <a:ext cx="75960" cy="7632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778880" y="5046840"/>
              <a:ext cx="247680" cy="5238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007480" y="5570640"/>
              <a:ext cx="75960" cy="7596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016840" y="5580000"/>
              <a:ext cx="76320" cy="7632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007480" y="5589720"/>
              <a:ext cx="75960" cy="7596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016840" y="5589720"/>
              <a:ext cx="76320" cy="7596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7950240" y="5608800"/>
              <a:ext cx="95040" cy="342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055000" y="5618160"/>
              <a:ext cx="85680" cy="343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931160" y="5894280"/>
              <a:ext cx="76320" cy="7632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083440" y="5894280"/>
              <a:ext cx="76320" cy="7632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768800" y="545472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 Black"/>
                </a:rPr>
                <a:t>D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405360" y="4203720"/>
            <a:ext cx="8122680" cy="2363400"/>
            <a:chOff x="405360" y="4203720"/>
            <a:chExt cx="8122680" cy="2363400"/>
          </a:xfrm>
        </p:grpSpPr>
        <p:sp>
          <p:nvSpPr>
            <p:cNvPr id="529" name=""/>
            <p:cNvSpPr/>
            <p:nvPr/>
          </p:nvSpPr>
          <p:spPr>
            <a:xfrm>
              <a:off x="444600" y="5213520"/>
              <a:ext cx="942840" cy="13334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44600" y="4203720"/>
              <a:ext cx="866520" cy="97164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844560" y="5927760"/>
              <a:ext cx="7657920" cy="9360"/>
            </a:xfrm>
            <a:prstGeom prst="line">
              <a:avLst/>
            </a:prstGeom>
            <a:ln w="1260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12880" y="4268880"/>
              <a:ext cx="334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 Black"/>
                </a:rPr>
                <a:t>x</a:t>
              </a:r>
              <a:r>
                <a:rPr b="0" lang="en-US" sz="1400" spc="-1" strike="noStrike" baseline="-25000">
                  <a:solidFill>
                    <a:srgbClr val="003366"/>
                  </a:solidFill>
                  <a:latin typeface="Arial Black"/>
                </a:rPr>
                <a:t>1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12880" y="4773600"/>
              <a:ext cx="334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 Black"/>
                </a:rPr>
                <a:t>x</a:t>
              </a:r>
              <a:r>
                <a:rPr b="0" lang="en-US" sz="1400" spc="-1" strike="noStrike" baseline="-25000">
                  <a:solidFill>
                    <a:srgbClr val="003366"/>
                  </a:solidFill>
                  <a:latin typeface="Arial Black"/>
                </a:rPr>
                <a:t>2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12880" y="5373720"/>
              <a:ext cx="334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 Black"/>
                </a:rPr>
                <a:t>x</a:t>
              </a:r>
              <a:r>
                <a:rPr b="0" lang="en-US" sz="1400" spc="-1" strike="noStrike" baseline="-25000">
                  <a:solidFill>
                    <a:srgbClr val="003366"/>
                  </a:solidFill>
                  <a:latin typeface="Arial Black"/>
                </a:rPr>
                <a:t>3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12880" y="5659560"/>
              <a:ext cx="334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 Black"/>
                </a:rPr>
                <a:t>x</a:t>
              </a:r>
              <a:r>
                <a:rPr b="0" lang="en-US" sz="1400" spc="-1" strike="noStrike" baseline="-25000">
                  <a:solidFill>
                    <a:srgbClr val="003366"/>
                  </a:solidFill>
                  <a:latin typeface="Arial Black"/>
                </a:rPr>
                <a:t>4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39160" y="6230880"/>
              <a:ext cx="339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 Black"/>
                </a:rPr>
                <a:t>x</a:t>
              </a:r>
              <a:r>
                <a:rPr b="0" lang="en-US" sz="1400" spc="-1" strike="noStrike" baseline="-25000">
                  <a:solidFill>
                    <a:srgbClr val="003366"/>
                  </a:solidFill>
                  <a:latin typeface="Arial Black"/>
                </a:rPr>
                <a:t>n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949320" y="5970600"/>
              <a:ext cx="76320" cy="7632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949320" y="6094440"/>
              <a:ext cx="76320" cy="7632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958680" y="6218280"/>
              <a:ext cx="76320" cy="7632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5080" y="4475160"/>
              <a:ext cx="39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P</a:t>
              </a:r>
              <a:r>
                <a:rPr b="0" lang="en-US" sz="2000" spc="-1" strike="noStrike" baseline="-25000">
                  <a:solidFill>
                    <a:srgbClr val="003366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05360" y="5722920"/>
              <a:ext cx="39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P</a:t>
              </a:r>
              <a:r>
                <a:rPr b="0" lang="en-US" sz="2000" spc="-1" strike="noStrike" baseline="-25000">
                  <a:solidFill>
                    <a:srgbClr val="003366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844560" y="5610240"/>
              <a:ext cx="7657920" cy="9360"/>
            </a:xfrm>
            <a:prstGeom prst="line">
              <a:avLst/>
            </a:prstGeom>
            <a:ln w="1260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870120" y="5038200"/>
              <a:ext cx="7657920" cy="9720"/>
            </a:xfrm>
            <a:prstGeom prst="line">
              <a:avLst/>
            </a:prstGeom>
            <a:ln w="1260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844560" y="4556160"/>
              <a:ext cx="7657920" cy="9360"/>
            </a:xfrm>
            <a:prstGeom prst="line">
              <a:avLst/>
            </a:prstGeom>
            <a:ln w="1260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1DA0D-B385-4CAF-B38F-511FF5A14E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73120" y="25200"/>
            <a:ext cx="7772400" cy="78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Spec and Implementation Generation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506760" y="295596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6a0d"/>
                </a:solidFill>
                <a:latin typeface="Arial"/>
              </a:rPr>
              <a:t>Requiremen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686480" y="3441600"/>
            <a:ext cx="0" cy="6858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43480" y="414324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6a0d"/>
                </a:solidFill>
                <a:latin typeface="Arial"/>
              </a:rPr>
              <a:t>Waveform Specific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610160" y="5057640"/>
            <a:ext cx="0" cy="6098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192480" y="5667480"/>
            <a:ext cx="256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6a0d"/>
                </a:solidFill>
                <a:latin typeface="Arial"/>
              </a:rPr>
              <a:t>Waveform Implement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3314880" y="3441600"/>
            <a:ext cx="1371600" cy="53352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686480" y="3441600"/>
            <a:ext cx="1447560" cy="53352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610160" y="5041800"/>
            <a:ext cx="1447920" cy="53352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3238560" y="5041800"/>
            <a:ext cx="1371600" cy="53352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524560" y="3441600"/>
            <a:ext cx="22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Other Alternativ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724360" y="5072040"/>
            <a:ext cx="25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Other Alternativ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676840" y="4356000"/>
            <a:ext cx="24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ormally Validatabl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638600" y="374652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571680" y="3796560"/>
            <a:ext cx="4105080" cy="1618200"/>
            <a:chOff x="571680" y="3796560"/>
            <a:chExt cx="4105080" cy="1618200"/>
          </a:xfrm>
        </p:grpSpPr>
        <p:sp>
          <p:nvSpPr>
            <p:cNvPr id="560" name=""/>
            <p:cNvSpPr/>
            <p:nvPr/>
          </p:nvSpPr>
          <p:spPr>
            <a:xfrm>
              <a:off x="571680" y="4500360"/>
              <a:ext cx="2057400" cy="91440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cxnSp>
          <p:nvCxnSpPr>
            <p:cNvPr id="561" name=""/>
            <p:cNvCxnSpPr/>
            <p:nvPr/>
          </p:nvCxnSpPr>
          <p:spPr>
            <a:xfrm flipH="1" flipV="1" rot="5400000">
              <a:off x="2871360" y="2677320"/>
              <a:ext cx="686520" cy="29250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</p:cxnSp>
      </p:grpSp>
      <p:sp>
        <p:nvSpPr>
          <p:cNvPr id="562" name=""/>
          <p:cNvSpPr/>
          <p:nvPr/>
        </p:nvSpPr>
        <p:spPr>
          <a:xfrm>
            <a:off x="903240" y="464328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omated Proces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4579560" y="5346000"/>
            <a:ext cx="3962880" cy="1448280"/>
            <a:chOff x="4579560" y="5346000"/>
            <a:chExt cx="3962880" cy="1448280"/>
          </a:xfrm>
        </p:grpSpPr>
        <p:sp>
          <p:nvSpPr>
            <p:cNvPr id="564" name=""/>
            <p:cNvSpPr/>
            <p:nvPr/>
          </p:nvSpPr>
          <p:spPr>
            <a:xfrm>
              <a:off x="6485040" y="5879880"/>
              <a:ext cx="2057400" cy="91440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cxnSp>
          <p:nvCxnSpPr>
            <p:cNvPr id="565" name=""/>
            <p:cNvCxnSpPr/>
            <p:nvPr/>
          </p:nvCxnSpPr>
          <p:spPr>
            <a:xfrm rot="10800000">
              <a:off x="4579200" y="5346000"/>
              <a:ext cx="1905840" cy="991080"/>
            </a:xfrm>
            <a:prstGeom prst="curvedConnector5">
              <a:avLst>
                <a:gd name="adj1" fmla="val 49990"/>
                <a:gd name="adj2" fmla="val 50000"/>
                <a:gd name="adj3" fmla="val 49990"/>
              </a:avLst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</p:cxnSp>
      </p:grpSp>
      <p:sp>
        <p:nvSpPr>
          <p:cNvPr id="566" name=""/>
          <p:cNvSpPr/>
          <p:nvPr/>
        </p:nvSpPr>
        <p:spPr>
          <a:xfrm>
            <a:off x="6846840" y="59389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omated Proces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079640" y="882720"/>
            <a:ext cx="7823160" cy="19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3. Application dependent constraint analysi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heck feasibility of each application constraint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reate search tree given application prioriti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4. Automated optimizatio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Use high-performance search technique to find optimal waveform specification that meets application constrain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06BFE-7AD3-45D8-9442-BAEC4DDA5C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Waveform Generation Technology Next Steps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748800" y="1193760"/>
            <a:ext cx="817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Refine and publish N-space, testing against JTRS legacy waveform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nput for a bounded set of use-cases for the OMG SWRadio spec (check on services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pply search and constraints against refined waveform characteristics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uild constraints as predicates over characteristics composing the points in waveform configuration space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 power, baud rate, bit error rate, frame error r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Use high-performance search techniques to identify viable candidates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0572F-5076-488E-9D75-1DC6949E4E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52560" y="1276200"/>
            <a:ext cx="7861320" cy="39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600" y="-1908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otivation for “Softer” Waveform Generation Technology &amp; Reusable Components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28880" y="1657080"/>
            <a:ext cx="311760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aveform developer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JT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Government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GINT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pec developer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pec implementer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19720" y="1676520"/>
            <a:ext cx="4533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orward engineering waveform from parts, separation of concerns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epository and verification of waveform parts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ommon understanding, non-redundancy, reduced costs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orking platform to apply constrained search to waveform classification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heck on services, use case identification and reduction and concise uniform description of waveform requirements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eusable waveform components and capture of waveform design options, parameters and trades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62400" y="123336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f you are 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92400" y="123336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You ge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52560" y="2327400"/>
            <a:ext cx="7848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52560" y="2924280"/>
            <a:ext cx="7848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52560" y="3533760"/>
            <a:ext cx="7848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52560" y="4178160"/>
            <a:ext cx="7848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52560" y="5410080"/>
            <a:ext cx="7848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52560" y="1679400"/>
            <a:ext cx="7861320" cy="4724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76640" y="1295280"/>
            <a:ext cx="0" cy="50961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CDE66-5A5B-48FF-B138-9D67512E7F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80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Characteristic Conceptualization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1523880"/>
            <a:ext cx="4191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849240"/>
            <a:ext cx="806148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Characterize waveforms into waveform attributes such that one could describe a waveform by combinations of types and parameters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nfolded table dimension = 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* 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* 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*…* 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aveforms can be thought of as unique paths in this 2-spac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aximum size is product of column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51040" y="3017880"/>
          <a:ext cx="7924680" cy="3449520"/>
        </p:xfrm>
        <a:graphic>
          <a:graphicData uri="http://schemas.openxmlformats.org/drawingml/2006/table">
            <a:tbl>
              <a:tblPr/>
              <a:tblGrid>
                <a:gridCol w="1465200"/>
                <a:gridCol w="1638360"/>
                <a:gridCol w="1349280"/>
                <a:gridCol w="1446120"/>
                <a:gridCol w="1351080"/>
                <a:gridCol w="674640"/>
              </a:tblGrid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ir interface  (x</a:t>
                      </a:r>
                      <a:r>
                        <a:rPr b="0" lang="en-US" sz="14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Packet content (x</a:t>
                      </a:r>
                      <a:r>
                        <a:rPr b="0" lang="en-US" sz="14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onnection type (x</a:t>
                      </a:r>
                      <a:r>
                        <a:rPr b="0" lang="en-US" sz="14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ccess mode (x</a:t>
                      </a:r>
                      <a:r>
                        <a:rPr b="0" lang="en-US" sz="14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ignal type (x</a:t>
                      </a:r>
                      <a:r>
                        <a:rPr b="0" lang="en-US" sz="14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FDM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voic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networkin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hoppin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nalo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DM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at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oint-to-poin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non-hoppin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igital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DM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roadcastin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irect sequenc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AM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ush-to-talk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runke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1778040" y="3632040"/>
            <a:ext cx="6197400" cy="1092240"/>
          </a:xfrm>
          <a:custGeom>
            <a:avLst/>
            <a:gdLst/>
            <a:ahLst/>
            <a:rect l="l" t="t" r="r" b="b"/>
            <a:pathLst>
              <a:path w="3840" h="688">
                <a:moveTo>
                  <a:pt x="0" y="384"/>
                </a:moveTo>
                <a:cubicBezTo>
                  <a:pt x="324" y="240"/>
                  <a:pt x="648" y="96"/>
                  <a:pt x="960" y="48"/>
                </a:cubicBezTo>
                <a:cubicBezTo>
                  <a:pt x="1272" y="0"/>
                  <a:pt x="1592" y="0"/>
                  <a:pt x="1872" y="96"/>
                </a:cubicBezTo>
                <a:cubicBezTo>
                  <a:pt x="2152" y="192"/>
                  <a:pt x="2312" y="560"/>
                  <a:pt x="2640" y="624"/>
                </a:cubicBezTo>
                <a:cubicBezTo>
                  <a:pt x="2968" y="688"/>
                  <a:pt x="3404" y="584"/>
                  <a:pt x="3840" y="480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96720" y="3784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20040" y="4470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16200" y="3727440"/>
            <a:ext cx="6006960" cy="633600"/>
          </a:xfrm>
          <a:custGeom>
            <a:avLst/>
            <a:gdLst/>
            <a:ahLst/>
            <a:rect l="l" t="t" r="r" b="b"/>
            <a:pathLst>
              <a:path w="3784" h="399">
                <a:moveTo>
                  <a:pt x="0" y="4"/>
                </a:moveTo>
                <a:cubicBezTo>
                  <a:pt x="134" y="142"/>
                  <a:pt x="269" y="281"/>
                  <a:pt x="504" y="340"/>
                </a:cubicBezTo>
                <a:cubicBezTo>
                  <a:pt x="739" y="399"/>
                  <a:pt x="1137" y="368"/>
                  <a:pt x="1408" y="356"/>
                </a:cubicBezTo>
                <a:cubicBezTo>
                  <a:pt x="1679" y="344"/>
                  <a:pt x="1941" y="323"/>
                  <a:pt x="2128" y="268"/>
                </a:cubicBezTo>
                <a:cubicBezTo>
                  <a:pt x="2315" y="213"/>
                  <a:pt x="2381" y="56"/>
                  <a:pt x="2528" y="28"/>
                </a:cubicBezTo>
                <a:cubicBezTo>
                  <a:pt x="2675" y="0"/>
                  <a:pt x="2799" y="47"/>
                  <a:pt x="3008" y="100"/>
                </a:cubicBezTo>
                <a:cubicBezTo>
                  <a:pt x="3217" y="153"/>
                  <a:pt x="3500" y="250"/>
                  <a:pt x="3784" y="348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AD893-634B-4D23-B7F5-D62154075A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1469160" y="1294920"/>
            <a:ext cx="7446240" cy="4016160"/>
            <a:chOff x="1469160" y="1294920"/>
            <a:chExt cx="7446240" cy="4016160"/>
          </a:xfrm>
        </p:grpSpPr>
        <p:sp>
          <p:nvSpPr>
            <p:cNvPr id="114" name=""/>
            <p:cNvSpPr/>
            <p:nvPr/>
          </p:nvSpPr>
          <p:spPr>
            <a:xfrm rot="19673400">
              <a:off x="1456200" y="4645800"/>
              <a:ext cx="1334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Times New Roman"/>
                </a:rPr>
                <a:t>x</a:t>
              </a:r>
              <a:r>
                <a:rPr b="1" lang="en-US" sz="1400" spc="-1" strike="noStrike" baseline="-25000">
                  <a:solidFill>
                    <a:srgbClr val="cc3300"/>
                  </a:solidFill>
                  <a:latin typeface="Times New Roman"/>
                </a:rPr>
                <a:t>5</a:t>
              </a:r>
              <a:r>
                <a:rPr b="1" lang="en-US" sz="1400" spc="-1" strike="noStrike">
                  <a:solidFill>
                    <a:srgbClr val="cc3300"/>
                  </a:solidFill>
                  <a:latin typeface="Times New Roman"/>
                </a:rPr>
                <a:t> = signal type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9814400">
              <a:off x="2894760" y="396216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Times New Roman"/>
                </a:rPr>
                <a:t>analog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9814400">
              <a:off x="4113720" y="3199680"/>
              <a:ext cx="66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Times New Roman"/>
                </a:rPr>
                <a:t>digital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52680" y="4114800"/>
              <a:ext cx="4800600" cy="0"/>
            </a:xfrm>
            <a:prstGeom prst="line">
              <a:avLst/>
            </a:prstGeom>
            <a:ln cap="rnd" w="936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3403440"/>
              <a:ext cx="3200400" cy="0"/>
            </a:xfrm>
            <a:prstGeom prst="line">
              <a:avLst/>
            </a:prstGeom>
            <a:ln cap="rnd" w="936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352680" y="2057040"/>
              <a:ext cx="0" cy="2057400"/>
            </a:xfrm>
            <a:prstGeom prst="line">
              <a:avLst/>
            </a:prstGeom>
            <a:ln cap="rnd" w="936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4572000" y="1294920"/>
              <a:ext cx="0" cy="2057400"/>
            </a:xfrm>
            <a:prstGeom prst="line">
              <a:avLst/>
            </a:prstGeom>
            <a:ln cap="rnd" w="936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52680" y="3124080"/>
              <a:ext cx="4800600" cy="0"/>
            </a:xfrm>
            <a:prstGeom prst="line">
              <a:avLst/>
            </a:prstGeom>
            <a:ln cap="rnd" w="936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0" y="2362320"/>
              <a:ext cx="4038480" cy="0"/>
            </a:xfrm>
            <a:prstGeom prst="line">
              <a:avLst/>
            </a:prstGeom>
            <a:ln cap="rnd" w="936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52680" y="2057400"/>
              <a:ext cx="5486400" cy="0"/>
            </a:xfrm>
            <a:prstGeom prst="line">
              <a:avLst/>
            </a:prstGeom>
            <a:ln cap="rnd" w="936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1295280"/>
              <a:ext cx="4343400" cy="0"/>
            </a:xfrm>
            <a:prstGeom prst="line">
              <a:avLst/>
            </a:prstGeom>
            <a:ln cap="rnd" w="936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2133720" y="2361960"/>
              <a:ext cx="2438280" cy="1523880"/>
            </a:xfrm>
            <a:prstGeom prst="line">
              <a:avLst/>
            </a:prstGeom>
            <a:ln cap="rnd" w="648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2133720" y="1295280"/>
              <a:ext cx="2438280" cy="1524240"/>
            </a:xfrm>
            <a:prstGeom prst="line">
              <a:avLst/>
            </a:prstGeom>
            <a:ln cap="rnd" w="648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2133720" y="3352320"/>
              <a:ext cx="2438280" cy="1575000"/>
            </a:xfrm>
            <a:prstGeom prst="line">
              <a:avLst/>
            </a:prstGeom>
            <a:ln w="936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3200400" y="2361960"/>
              <a:ext cx="2438280" cy="1523880"/>
            </a:xfrm>
            <a:prstGeom prst="line">
              <a:avLst/>
            </a:prstGeom>
            <a:ln cap="rnd" w="648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191120" y="2349360"/>
              <a:ext cx="2438280" cy="1524240"/>
            </a:xfrm>
            <a:prstGeom prst="line">
              <a:avLst/>
            </a:prstGeom>
            <a:ln cap="rnd" w="648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5181480" y="2349360"/>
              <a:ext cx="2438640" cy="1524240"/>
            </a:xfrm>
            <a:prstGeom prst="line">
              <a:avLst/>
            </a:prstGeom>
            <a:ln cap="rnd" w="648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172200" y="2349360"/>
              <a:ext cx="2438280" cy="1524240"/>
            </a:xfrm>
            <a:prstGeom prst="line">
              <a:avLst/>
            </a:prstGeom>
            <a:ln cap="rnd" w="648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191120" y="3124080"/>
              <a:ext cx="2819160" cy="1803600"/>
            </a:xfrm>
            <a:prstGeom prst="line">
              <a:avLst/>
            </a:prstGeom>
            <a:ln w="936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5194440" y="3123720"/>
              <a:ext cx="2806560" cy="1791000"/>
            </a:xfrm>
            <a:prstGeom prst="line">
              <a:avLst/>
            </a:prstGeom>
            <a:ln w="936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6197760" y="3200040"/>
              <a:ext cx="2641320" cy="1701720"/>
            </a:xfrm>
            <a:prstGeom prst="line">
              <a:avLst/>
            </a:prstGeom>
            <a:ln w="936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3200400" y="1295280"/>
              <a:ext cx="2438280" cy="1524240"/>
            </a:xfrm>
            <a:prstGeom prst="line">
              <a:avLst/>
            </a:prstGeom>
            <a:ln cap="rnd" w="648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191120" y="1295280"/>
              <a:ext cx="2438280" cy="1524240"/>
            </a:xfrm>
            <a:prstGeom prst="line">
              <a:avLst/>
            </a:prstGeom>
            <a:ln cap="rnd" w="648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5181480" y="1295280"/>
              <a:ext cx="2438640" cy="1524240"/>
            </a:xfrm>
            <a:prstGeom prst="line">
              <a:avLst/>
            </a:prstGeom>
            <a:ln cap="rnd" w="648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6172200" y="1295280"/>
              <a:ext cx="2438280" cy="1524240"/>
            </a:xfrm>
            <a:prstGeom prst="line">
              <a:avLst/>
            </a:prstGeom>
            <a:ln cap="rnd" w="648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7391520" y="2057040"/>
              <a:ext cx="0" cy="2057400"/>
            </a:xfrm>
            <a:prstGeom prst="line">
              <a:avLst/>
            </a:prstGeom>
            <a:ln cap="rnd" w="936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8610480" y="1294920"/>
              <a:ext cx="0" cy="2057400"/>
            </a:xfrm>
            <a:prstGeom prst="line">
              <a:avLst/>
            </a:prstGeom>
            <a:ln cap="rnd" w="936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200400" y="3123720"/>
              <a:ext cx="2819520" cy="1808280"/>
            </a:xfrm>
            <a:prstGeom prst="line">
              <a:avLst/>
            </a:prstGeom>
            <a:ln w="936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411920" y="1905120"/>
            <a:ext cx="7499160" cy="3460320"/>
            <a:chOff x="1411920" y="1905120"/>
            <a:chExt cx="7499160" cy="3460320"/>
          </a:xfrm>
        </p:grpSpPr>
        <p:sp>
          <p:nvSpPr>
            <p:cNvPr id="143" name=""/>
            <p:cNvSpPr/>
            <p:nvPr/>
          </p:nvSpPr>
          <p:spPr>
            <a:xfrm>
              <a:off x="2129040" y="2819520"/>
              <a:ext cx="510516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29040" y="2209680"/>
              <a:ext cx="0" cy="272412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29040" y="4933800"/>
              <a:ext cx="5867280" cy="1908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29040" y="3886200"/>
              <a:ext cx="510516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95720" y="2819520"/>
              <a:ext cx="0" cy="211428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86440" y="2819520"/>
              <a:ext cx="0" cy="211428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11920" y="1905120"/>
              <a:ext cx="10191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Times New Roman"/>
                </a:rPr>
                <a:t>x</a:t>
              </a:r>
              <a:r>
                <a:rPr b="1" lang="en-US" sz="1400" spc="-1" strike="noStrike" baseline="-25000">
                  <a:solidFill>
                    <a:srgbClr val="cc3300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cc3300"/>
                  </a:solidFill>
                  <a:latin typeface="Times New Roman"/>
                </a:rPr>
                <a:t> = packet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Times New Roman"/>
                </a:rPr>
                <a:t>content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08080" y="4952880"/>
              <a:ext cx="73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Times New Roman"/>
                </a:rPr>
                <a:t>CDMA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17360" y="4952880"/>
              <a:ext cx="71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Times New Roman"/>
                </a:rPr>
                <a:t>FDMA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57040" y="4952880"/>
              <a:ext cx="72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Times New Roman"/>
                </a:rPr>
                <a:t>TDMA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95520" y="3733920"/>
              <a:ext cx="5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Times New Roman"/>
                </a:rPr>
                <a:t>data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95520" y="266688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Times New Roman"/>
                </a:rPr>
                <a:t>voice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13200" y="4952880"/>
              <a:ext cx="73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Times New Roman"/>
                </a:rPr>
                <a:t>DAMA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76800" y="2819520"/>
              <a:ext cx="0" cy="211428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7520" y="2819520"/>
              <a:ext cx="0" cy="211428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58240" y="2819520"/>
              <a:ext cx="0" cy="211428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59200" y="5029200"/>
              <a:ext cx="1451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Times New Roman"/>
                </a:rPr>
                <a:t>x</a:t>
              </a:r>
              <a:r>
                <a:rPr b="1" lang="en-US" sz="1400" spc="-1" strike="noStrike" baseline="-25000">
                  <a:solidFill>
                    <a:srgbClr val="cc3300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cc3300"/>
                  </a:solidFill>
                  <a:latin typeface="Times New Roman"/>
                </a:rPr>
                <a:t> = air interface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aveform Configuration in N Dimensions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5745240"/>
            <a:ext cx="76320" cy="75960"/>
          </a:xfrm>
          <a:prstGeom prst="ellipse">
            <a:avLst/>
          </a:prstGeom>
          <a:solidFill>
            <a:srgbClr val="33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60498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9040" y="560700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consistent attribu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4880" y="5911920"/>
            <a:ext cx="195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inconsistent attribu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416600" y="1905120"/>
            <a:ext cx="7499160" cy="3460320"/>
            <a:chOff x="1416600" y="1905120"/>
            <a:chExt cx="7499160" cy="3460320"/>
          </a:xfrm>
        </p:grpSpPr>
        <p:sp>
          <p:nvSpPr>
            <p:cNvPr id="166" name=""/>
            <p:cNvSpPr/>
            <p:nvPr/>
          </p:nvSpPr>
          <p:spPr>
            <a:xfrm>
              <a:off x="2133720" y="2819520"/>
              <a:ext cx="510516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33720" y="2210040"/>
              <a:ext cx="0" cy="272412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33720" y="4934160"/>
              <a:ext cx="5867280" cy="1908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133720" y="3886200"/>
              <a:ext cx="510516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00400" y="2819520"/>
              <a:ext cx="0" cy="211464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91120" y="2819520"/>
              <a:ext cx="0" cy="211464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16600" y="1905120"/>
              <a:ext cx="10191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Times New Roman"/>
                </a:rPr>
                <a:t>x</a:t>
              </a:r>
              <a:r>
                <a:rPr b="1" lang="en-US" sz="1400" spc="-1" strike="noStrike" baseline="-25000">
                  <a:solidFill>
                    <a:srgbClr val="cc3300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cc3300"/>
                  </a:solidFill>
                  <a:latin typeface="Times New Roman"/>
                </a:rPr>
                <a:t> = packet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Times New Roman"/>
                </a:rPr>
                <a:t>content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12760" y="4953240"/>
              <a:ext cx="73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Times New Roman"/>
                </a:rPr>
                <a:t>CDMA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822040" y="4953240"/>
              <a:ext cx="71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Times New Roman"/>
                </a:rPr>
                <a:t>FDMA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61720" y="4953240"/>
              <a:ext cx="72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Times New Roman"/>
                </a:rPr>
                <a:t>TDMA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00200" y="3733920"/>
              <a:ext cx="5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Times New Roman"/>
                </a:rPr>
                <a:t>data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00200" y="266724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Times New Roman"/>
                </a:rPr>
                <a:t>voice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17880" y="4953240"/>
              <a:ext cx="73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Times New Roman"/>
                </a:rPr>
                <a:t>DAMA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81480" y="2819520"/>
              <a:ext cx="0" cy="211464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72200" y="2819520"/>
              <a:ext cx="0" cy="211464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162920" y="2819520"/>
              <a:ext cx="0" cy="211464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463880" y="5029200"/>
              <a:ext cx="1451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Times New Roman"/>
                </a:rPr>
                <a:t>x</a:t>
              </a:r>
              <a:r>
                <a:rPr b="1" lang="en-US" sz="1400" spc="-1" strike="noStrike" baseline="-25000">
                  <a:solidFill>
                    <a:srgbClr val="cc3300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cc3300"/>
                  </a:solidFill>
                  <a:latin typeface="Times New Roman"/>
                </a:rPr>
                <a:t> = air interface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24080" y="3797280"/>
              <a:ext cx="165240" cy="16524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14800" y="3797280"/>
              <a:ext cx="165240" cy="16524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105520" y="3797280"/>
              <a:ext cx="164880" cy="16524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95880" y="3797280"/>
              <a:ext cx="165240" cy="16524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24080" y="2743200"/>
              <a:ext cx="165240" cy="16524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14800" y="2743200"/>
              <a:ext cx="165240" cy="16524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05520" y="2743200"/>
              <a:ext cx="164880" cy="16524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95880" y="2743200"/>
              <a:ext cx="165240" cy="16524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276720" y="1206360"/>
            <a:ext cx="1384200" cy="2006640"/>
            <a:chOff x="3276720" y="1206360"/>
            <a:chExt cx="1384200" cy="2006640"/>
          </a:xfrm>
        </p:grpSpPr>
        <p:sp>
          <p:nvSpPr>
            <p:cNvPr id="192" name=""/>
            <p:cNvSpPr/>
            <p:nvPr/>
          </p:nvSpPr>
          <p:spPr>
            <a:xfrm>
              <a:off x="3276720" y="1968480"/>
              <a:ext cx="164880" cy="16524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1206360"/>
              <a:ext cx="165240" cy="16524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6720" y="3048120"/>
              <a:ext cx="164880" cy="16488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95680" y="2286000"/>
              <a:ext cx="165240" cy="16524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2862720" y="844200"/>
            <a:ext cx="1953360" cy="1365480"/>
            <a:chOff x="2862720" y="844200"/>
            <a:chExt cx="1953360" cy="1365480"/>
          </a:xfrm>
        </p:grpSpPr>
        <p:sp>
          <p:nvSpPr>
            <p:cNvPr id="197" name=""/>
            <p:cNvSpPr/>
            <p:nvPr/>
          </p:nvSpPr>
          <p:spPr>
            <a:xfrm rot="19814400">
              <a:off x="2893320" y="175176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Times New Roman"/>
                </a:rPr>
                <a:t>analog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9814400">
              <a:off x="4113720" y="990000"/>
              <a:ext cx="66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Times New Roman"/>
                </a:rPr>
                <a:t>digital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429000" y="2209320"/>
            <a:ext cx="3227400" cy="4162680"/>
            <a:chOff x="3429000" y="2209320"/>
            <a:chExt cx="3227400" cy="4162680"/>
          </a:xfrm>
        </p:grpSpPr>
        <p:sp>
          <p:nvSpPr>
            <p:cNvPr id="200" name=""/>
            <p:cNvSpPr/>
            <p:nvPr/>
          </p:nvSpPr>
          <p:spPr>
            <a:xfrm>
              <a:off x="3429000" y="5638680"/>
              <a:ext cx="299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 Black"/>
                  <a:ea typeface="Times New Roman"/>
                </a:rPr>
                <a:t>with analog data, QPSK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 Black"/>
                  <a:ea typeface="Times New Roman"/>
                </a:rPr>
                <a:t>modulation cannot be used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5765760" y="5257440"/>
              <a:ext cx="887400" cy="6858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5486400" y="3200040"/>
              <a:ext cx="1170000" cy="20574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5486400" y="2209320"/>
              <a:ext cx="1170000" cy="30481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991120" y="199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43560" y="-504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200400" y="1219320"/>
            <a:ext cx="5435640" cy="3657600"/>
            <a:chOff x="3200400" y="1219320"/>
            <a:chExt cx="5435640" cy="3657600"/>
          </a:xfrm>
        </p:grpSpPr>
        <p:grpSp>
          <p:nvGrpSpPr>
            <p:cNvPr id="207" name=""/>
            <p:cNvGrpSpPr/>
            <p:nvPr/>
          </p:nvGrpSpPr>
          <p:grpSpPr>
            <a:xfrm>
              <a:off x="3200400" y="1295280"/>
              <a:ext cx="5334120" cy="3581640"/>
              <a:chOff x="3200400" y="1295280"/>
              <a:chExt cx="5334120" cy="3581640"/>
            </a:xfrm>
          </p:grpSpPr>
          <p:sp>
            <p:nvSpPr>
              <p:cNvPr id="208" name=""/>
              <p:cNvSpPr/>
              <p:nvPr/>
            </p:nvSpPr>
            <p:spPr>
              <a:xfrm>
                <a:off x="5638680" y="1295280"/>
                <a:ext cx="8384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629400" y="1295280"/>
                <a:ext cx="8380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620120" y="1295280"/>
                <a:ext cx="8380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562720" y="1371600"/>
                <a:ext cx="0" cy="20574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3200400" y="3429000"/>
                <a:ext cx="2362320" cy="144792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553080" y="1371600"/>
                <a:ext cx="0" cy="20574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V="1">
                <a:off x="4191120" y="3429000"/>
                <a:ext cx="2361960" cy="144792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543800" y="1371600"/>
                <a:ext cx="0" cy="20574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5181480" y="3429000"/>
                <a:ext cx="2362320" cy="144792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534520" y="1371600"/>
                <a:ext cx="0" cy="20574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>
                <a:off x="6172200" y="3429000"/>
                <a:ext cx="2362320" cy="144792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648320" y="1295280"/>
                <a:ext cx="8380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648320" y="2362320"/>
                <a:ext cx="8380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651640" y="2362320"/>
                <a:ext cx="8380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642000" y="2362320"/>
                <a:ext cx="8384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96080" y="2362320"/>
                <a:ext cx="76212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5486400" y="1219320"/>
              <a:ext cx="3149640" cy="1244520"/>
              <a:chOff x="5486400" y="1219320"/>
              <a:chExt cx="3149640" cy="1244520"/>
            </a:xfrm>
          </p:grpSpPr>
          <p:grpSp>
            <p:nvGrpSpPr>
              <p:cNvPr id="225" name=""/>
              <p:cNvGrpSpPr/>
              <p:nvPr/>
            </p:nvGrpSpPr>
            <p:grpSpPr>
              <a:xfrm>
                <a:off x="5499000" y="2286000"/>
                <a:ext cx="3137040" cy="177840"/>
                <a:chOff x="5499000" y="2286000"/>
                <a:chExt cx="3137040" cy="1778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499000" y="2286000"/>
                  <a:ext cx="165240" cy="165240"/>
                </a:xfrm>
                <a:prstGeom prst="ellipse">
                  <a:avLst/>
                </a:prstGeom>
                <a:solidFill>
                  <a:srgbClr val="336699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518240" y="2286000"/>
                  <a:ext cx="165240" cy="165240"/>
                </a:xfrm>
                <a:prstGeom prst="ellipse">
                  <a:avLst/>
                </a:prstGeom>
                <a:solidFill>
                  <a:srgbClr val="336699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8470800" y="2286000"/>
                  <a:ext cx="165240" cy="165240"/>
                </a:xfrm>
                <a:prstGeom prst="ellipse">
                  <a:avLst/>
                </a:prstGeom>
                <a:solidFill>
                  <a:srgbClr val="336699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502320" y="2298600"/>
                  <a:ext cx="165240" cy="165240"/>
                </a:xfrm>
                <a:prstGeom prst="ellipse">
                  <a:avLst/>
                </a:prstGeom>
                <a:solidFill>
                  <a:srgbClr val="336699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5486400" y="1219320"/>
                <a:ext cx="3137040" cy="177840"/>
                <a:chOff x="5486400" y="1219320"/>
                <a:chExt cx="3137040" cy="177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486400" y="1219320"/>
                  <a:ext cx="165240" cy="165240"/>
                </a:xfrm>
                <a:prstGeom prst="ellipse">
                  <a:avLst/>
                </a:prstGeom>
                <a:solidFill>
                  <a:srgbClr val="336699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505640" y="1219320"/>
                  <a:ext cx="165240" cy="165240"/>
                </a:xfrm>
                <a:prstGeom prst="ellipse">
                  <a:avLst/>
                </a:prstGeom>
                <a:solidFill>
                  <a:srgbClr val="336699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458200" y="1219320"/>
                  <a:ext cx="165240" cy="165240"/>
                </a:xfrm>
                <a:prstGeom prst="ellipse">
                  <a:avLst/>
                </a:prstGeom>
                <a:solidFill>
                  <a:srgbClr val="336699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489720" y="1231920"/>
                  <a:ext cx="165240" cy="165240"/>
                </a:xfrm>
                <a:prstGeom prst="ellipse">
                  <a:avLst/>
                </a:prstGeom>
                <a:solidFill>
                  <a:srgbClr val="336699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5" name=""/>
          <p:cNvGrpSpPr/>
          <p:nvPr/>
        </p:nvGrpSpPr>
        <p:grpSpPr>
          <a:xfrm>
            <a:off x="3200400" y="1981080"/>
            <a:ext cx="4280040" cy="2895480"/>
            <a:chOff x="3200400" y="1981080"/>
            <a:chExt cx="4280040" cy="2895480"/>
          </a:xfrm>
        </p:grpSpPr>
        <p:grpSp>
          <p:nvGrpSpPr>
            <p:cNvPr id="236" name=""/>
            <p:cNvGrpSpPr/>
            <p:nvPr/>
          </p:nvGrpSpPr>
          <p:grpSpPr>
            <a:xfrm>
              <a:off x="3467160" y="2057400"/>
              <a:ext cx="3848040" cy="1066680"/>
              <a:chOff x="3467160" y="2057400"/>
              <a:chExt cx="3848040" cy="1066680"/>
            </a:xfrm>
          </p:grpSpPr>
          <p:sp>
            <p:nvSpPr>
              <p:cNvPr id="237" name=""/>
              <p:cNvSpPr/>
              <p:nvPr/>
            </p:nvSpPr>
            <p:spPr>
              <a:xfrm>
                <a:off x="4495680" y="2057400"/>
                <a:ext cx="8384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486400" y="2057400"/>
                <a:ext cx="8380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477120" y="2057400"/>
                <a:ext cx="8380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477120" y="3124080"/>
                <a:ext cx="8380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486400" y="3124080"/>
                <a:ext cx="8380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495680" y="3124080"/>
                <a:ext cx="8384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467160" y="2057400"/>
                <a:ext cx="8380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467160" y="3124080"/>
                <a:ext cx="8380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3200400" y="1981080"/>
              <a:ext cx="4280040" cy="2895480"/>
              <a:chOff x="3200400" y="1981080"/>
              <a:chExt cx="4280040" cy="289548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3200400" y="2133360"/>
                <a:ext cx="4203720" cy="2743200"/>
                <a:chOff x="3200400" y="2133360"/>
                <a:chExt cx="4203720" cy="2743200"/>
              </a:xfrm>
            </p:grpSpPr>
            <p:sp>
              <p:nvSpPr>
                <p:cNvPr id="247" name=""/>
                <p:cNvSpPr/>
                <p:nvPr/>
              </p:nvSpPr>
              <p:spPr>
                <a:xfrm flipV="1">
                  <a:off x="3200400" y="4114440"/>
                  <a:ext cx="1219320" cy="76212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V="1">
                  <a:off x="4191120" y="4114440"/>
                  <a:ext cx="1218960" cy="76212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V="1">
                  <a:off x="5181480" y="4114440"/>
                  <a:ext cx="1219320" cy="76212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V="1">
                  <a:off x="6172200" y="4114440"/>
                  <a:ext cx="1219320" cy="76212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V="1">
                  <a:off x="4419720" y="2133360"/>
                  <a:ext cx="0" cy="198108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V="1">
                  <a:off x="5423040" y="2133360"/>
                  <a:ext cx="0" cy="198108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V="1">
                  <a:off x="6426360" y="2133360"/>
                  <a:ext cx="0" cy="198108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V="1">
                  <a:off x="7404120" y="2133360"/>
                  <a:ext cx="0" cy="198108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4343400" y="1981080"/>
                <a:ext cx="3137040" cy="1231920"/>
                <a:chOff x="4343400" y="1981080"/>
                <a:chExt cx="3137040" cy="1231920"/>
              </a:xfrm>
            </p:grpSpPr>
            <p:grpSp>
              <p:nvGrpSpPr>
                <p:cNvPr id="256" name=""/>
                <p:cNvGrpSpPr/>
                <p:nvPr/>
              </p:nvGrpSpPr>
              <p:grpSpPr>
                <a:xfrm>
                  <a:off x="4343400" y="3048120"/>
                  <a:ext cx="3137040" cy="164880"/>
                  <a:chOff x="4343400" y="3048120"/>
                  <a:chExt cx="3137040" cy="16488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4343400" y="3048120"/>
                    <a:ext cx="165240" cy="164880"/>
                  </a:xfrm>
                  <a:prstGeom prst="ellipse">
                    <a:avLst/>
                  </a:prstGeom>
                  <a:solidFill>
                    <a:srgbClr val="336699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6362640" y="3048120"/>
                    <a:ext cx="165240" cy="164880"/>
                  </a:xfrm>
                  <a:prstGeom prst="ellipse">
                    <a:avLst/>
                  </a:prstGeom>
                  <a:solidFill>
                    <a:srgbClr val="336699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7315200" y="3048120"/>
                    <a:ext cx="165240" cy="164880"/>
                  </a:xfrm>
                  <a:prstGeom prst="ellipse">
                    <a:avLst/>
                  </a:prstGeom>
                  <a:solidFill>
                    <a:srgbClr val="336699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5359320" y="3048120"/>
                    <a:ext cx="165240" cy="16488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1" name=""/>
                <p:cNvGrpSpPr/>
                <p:nvPr/>
              </p:nvGrpSpPr>
              <p:grpSpPr>
                <a:xfrm>
                  <a:off x="4343400" y="1981080"/>
                  <a:ext cx="3137040" cy="164880"/>
                  <a:chOff x="4343400" y="1981080"/>
                  <a:chExt cx="3137040" cy="164880"/>
                </a:xfrm>
              </p:grpSpPr>
              <p:sp>
                <p:nvSpPr>
                  <p:cNvPr id="262" name=""/>
                  <p:cNvSpPr/>
                  <p:nvPr/>
                </p:nvSpPr>
                <p:spPr>
                  <a:xfrm>
                    <a:off x="4343400" y="1981080"/>
                    <a:ext cx="165240" cy="164880"/>
                  </a:xfrm>
                  <a:prstGeom prst="ellipse">
                    <a:avLst/>
                  </a:prstGeom>
                  <a:solidFill>
                    <a:srgbClr val="336699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6362640" y="1981080"/>
                    <a:ext cx="165240" cy="164880"/>
                  </a:xfrm>
                  <a:prstGeom prst="ellipse">
                    <a:avLst/>
                  </a:prstGeom>
                  <a:solidFill>
                    <a:srgbClr val="336699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7315200" y="1981080"/>
                    <a:ext cx="165240" cy="164880"/>
                  </a:xfrm>
                  <a:prstGeom prst="ellipse">
                    <a:avLst/>
                  </a:prstGeom>
                  <a:solidFill>
                    <a:srgbClr val="336699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359320" y="1981080"/>
                    <a:ext cx="165240" cy="16488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66" name=""/>
          <p:cNvSpPr/>
          <p:nvPr/>
        </p:nvSpPr>
        <p:spPr>
          <a:xfrm>
            <a:off x="5486400" y="2247840"/>
            <a:ext cx="228600" cy="228600"/>
          </a:xfrm>
          <a:prstGeom prst="ellipse">
            <a:avLst/>
          </a:prstGeom>
          <a:solidFill>
            <a:srgbClr val="33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7EE79-3E33-485F-A745-163CA6BECA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Next 3 dimensions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33720" y="2819520"/>
            <a:ext cx="510516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33720" y="2209680"/>
            <a:ext cx="0" cy="2724120"/>
          </a:xfrm>
          <a:prstGeom prst="line">
            <a:avLst/>
          </a:prstGeom>
          <a:ln w="1908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4933800"/>
            <a:ext cx="5867280" cy="1908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33720" y="3886200"/>
            <a:ext cx="510516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00400" y="2819520"/>
            <a:ext cx="0" cy="211428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91120" y="2819520"/>
            <a:ext cx="0" cy="211428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223640" y="1981080"/>
            <a:ext cx="991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Times New Roman"/>
              </a:rPr>
              <a:t>x</a:t>
            </a:r>
            <a:r>
              <a:rPr b="1" lang="en-US" sz="1400" spc="-1" strike="noStrike" baseline="-25000">
                <a:solidFill>
                  <a:srgbClr val="cc3300"/>
                </a:solidFill>
                <a:latin typeface="Times New Roman"/>
              </a:rPr>
              <a:t>6 </a:t>
            </a:r>
            <a:r>
              <a:rPr b="1" lang="en-US" sz="1400" spc="-1" strike="noStrike">
                <a:solidFill>
                  <a:srgbClr val="cc3300"/>
                </a:solidFill>
                <a:latin typeface="Times New Roman"/>
              </a:rPr>
              <a:t>= source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3300"/>
                </a:solidFill>
                <a:latin typeface="Times New Roman"/>
              </a:rPr>
              <a:t>coding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81480" y="2819520"/>
            <a:ext cx="0" cy="211428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72200" y="2819520"/>
            <a:ext cx="0" cy="211428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2819520"/>
            <a:ext cx="0" cy="211428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935400" y="5029200"/>
            <a:ext cx="1570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Times New Roman"/>
              </a:rPr>
              <a:t>x</a:t>
            </a:r>
            <a:r>
              <a:rPr b="1" lang="en-US" sz="1400" spc="-1" strike="noStrike" baseline="-25000">
                <a:solidFill>
                  <a:srgbClr val="cc3300"/>
                </a:solidFill>
                <a:latin typeface="Times New Roman"/>
              </a:rPr>
              <a:t>4</a:t>
            </a:r>
            <a:r>
              <a:rPr b="1" lang="en-US" sz="1400" spc="-1" strike="noStrike">
                <a:solidFill>
                  <a:srgbClr val="cc3300"/>
                </a:solidFill>
                <a:latin typeface="Times New Roman"/>
              </a:rPr>
              <a:t> = spectral mask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24080" y="3797280"/>
            <a:ext cx="165240" cy="165240"/>
          </a:xfrm>
          <a:prstGeom prst="ellipse">
            <a:avLst/>
          </a:prstGeom>
          <a:solidFill>
            <a:srgbClr val="33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3797280"/>
            <a:ext cx="165240" cy="165240"/>
          </a:xfrm>
          <a:prstGeom prst="ellipse">
            <a:avLst/>
          </a:prstGeom>
          <a:solidFill>
            <a:srgbClr val="33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05520" y="3797280"/>
            <a:ext cx="164880" cy="165240"/>
          </a:xfrm>
          <a:prstGeom prst="ellipse">
            <a:avLst/>
          </a:prstGeom>
          <a:solidFill>
            <a:srgbClr val="33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95880" y="3797280"/>
            <a:ext cx="165240" cy="165240"/>
          </a:xfrm>
          <a:prstGeom prst="ellipse">
            <a:avLst/>
          </a:prstGeom>
          <a:solidFill>
            <a:srgbClr val="33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24080" y="2743200"/>
            <a:ext cx="165240" cy="165240"/>
          </a:xfrm>
          <a:prstGeom prst="ellipse">
            <a:avLst/>
          </a:prstGeom>
          <a:solidFill>
            <a:srgbClr val="33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14800" y="2743200"/>
            <a:ext cx="165240" cy="165240"/>
          </a:xfrm>
          <a:prstGeom prst="ellipse">
            <a:avLst/>
          </a:prstGeom>
          <a:solidFill>
            <a:srgbClr val="33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05520" y="2743200"/>
            <a:ext cx="164880" cy="165240"/>
          </a:xfrm>
          <a:prstGeom prst="ellipse">
            <a:avLst/>
          </a:prstGeom>
          <a:solidFill>
            <a:srgbClr val="33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5880" y="2743200"/>
            <a:ext cx="165240" cy="165240"/>
          </a:xfrm>
          <a:prstGeom prst="ellipse">
            <a:avLst/>
          </a:prstGeom>
          <a:solidFill>
            <a:srgbClr val="33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120760" y="2057400"/>
            <a:ext cx="4432320" cy="2882880"/>
          </a:xfrm>
          <a:prstGeom prst="line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9511400">
            <a:off x="1275480" y="4627440"/>
            <a:ext cx="1660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Times New Roman"/>
              </a:rPr>
              <a:t>x</a:t>
            </a:r>
            <a:r>
              <a:rPr b="1" lang="en-US" sz="1400" spc="-1" strike="noStrike" baseline="-25000">
                <a:solidFill>
                  <a:srgbClr val="cc3300"/>
                </a:solidFill>
                <a:latin typeface="Times New Roman"/>
              </a:rPr>
              <a:t>7</a:t>
            </a:r>
            <a:r>
              <a:rPr b="1" lang="en-US" sz="1400" spc="-1" strike="noStrike">
                <a:solidFill>
                  <a:srgbClr val="cc3300"/>
                </a:solidFill>
                <a:latin typeface="Times New Roman"/>
              </a:rPr>
              <a:t> = channel codin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40840" y="3276720"/>
            <a:ext cx="16452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= TDM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= digita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= dat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352680" y="4114800"/>
            <a:ext cx="4800600" cy="0"/>
          </a:xfrm>
          <a:prstGeom prst="line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3403440"/>
            <a:ext cx="3200400" cy="0"/>
          </a:xfrm>
          <a:prstGeom prst="line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3352680" y="2057040"/>
            <a:ext cx="0" cy="2057400"/>
          </a:xfrm>
          <a:prstGeom prst="line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572000" y="1294920"/>
            <a:ext cx="0" cy="2057400"/>
          </a:xfrm>
          <a:prstGeom prst="line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352680" y="3124080"/>
            <a:ext cx="4800600" cy="0"/>
          </a:xfrm>
          <a:prstGeom prst="line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2362320"/>
            <a:ext cx="4038480" cy="0"/>
          </a:xfrm>
          <a:prstGeom prst="line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352680" y="2057400"/>
            <a:ext cx="5486400" cy="0"/>
          </a:xfrm>
          <a:prstGeom prst="line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0" y="1295280"/>
            <a:ext cx="4343400" cy="0"/>
          </a:xfrm>
          <a:prstGeom prst="line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2133720" y="2361960"/>
            <a:ext cx="2438280" cy="1523880"/>
          </a:xfrm>
          <a:prstGeom prst="line">
            <a:avLst/>
          </a:prstGeom>
          <a:ln cap="rnd" w="64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2133720" y="1295280"/>
            <a:ext cx="2438280" cy="1524240"/>
          </a:xfrm>
          <a:prstGeom prst="line">
            <a:avLst/>
          </a:prstGeom>
          <a:ln cap="rnd" w="64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133720" y="3352320"/>
            <a:ext cx="2438280" cy="1575000"/>
          </a:xfrm>
          <a:prstGeom prst="line">
            <a:avLst/>
          </a:prstGeom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3200400" y="2361960"/>
            <a:ext cx="2438280" cy="1523880"/>
          </a:xfrm>
          <a:prstGeom prst="line">
            <a:avLst/>
          </a:prstGeom>
          <a:ln cap="rnd" w="64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4191120" y="2349360"/>
            <a:ext cx="2438280" cy="1524240"/>
          </a:xfrm>
          <a:prstGeom prst="line">
            <a:avLst/>
          </a:prstGeom>
          <a:ln cap="rnd" w="64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5181480" y="2349360"/>
            <a:ext cx="2438640" cy="1524240"/>
          </a:xfrm>
          <a:prstGeom prst="line">
            <a:avLst/>
          </a:prstGeom>
          <a:ln cap="rnd" w="64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6172200" y="2349360"/>
            <a:ext cx="2438280" cy="1524240"/>
          </a:xfrm>
          <a:prstGeom prst="line">
            <a:avLst/>
          </a:prstGeom>
          <a:ln cap="rnd" w="64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191120" y="3124080"/>
            <a:ext cx="2819160" cy="1803600"/>
          </a:xfrm>
          <a:prstGeom prst="line">
            <a:avLst/>
          </a:prstGeom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5194440" y="3123720"/>
            <a:ext cx="2806560" cy="1791000"/>
          </a:xfrm>
          <a:prstGeom prst="line">
            <a:avLst/>
          </a:prstGeom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6197760" y="3200040"/>
            <a:ext cx="2641320" cy="1701720"/>
          </a:xfrm>
          <a:prstGeom prst="line">
            <a:avLst/>
          </a:prstGeom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3200400" y="1295280"/>
            <a:ext cx="2438280" cy="1524240"/>
          </a:xfrm>
          <a:prstGeom prst="line">
            <a:avLst/>
          </a:prstGeom>
          <a:ln cap="rnd" w="64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4191120" y="1295280"/>
            <a:ext cx="2438280" cy="1524240"/>
          </a:xfrm>
          <a:prstGeom prst="line">
            <a:avLst/>
          </a:prstGeom>
          <a:ln cap="rnd" w="64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181480" y="1295280"/>
            <a:ext cx="2438640" cy="1524240"/>
          </a:xfrm>
          <a:prstGeom prst="line">
            <a:avLst/>
          </a:prstGeom>
          <a:ln cap="rnd" w="64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6172200" y="1295280"/>
            <a:ext cx="2438280" cy="1524240"/>
          </a:xfrm>
          <a:prstGeom prst="line">
            <a:avLst/>
          </a:prstGeom>
          <a:ln cap="rnd" w="64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7391520" y="2057040"/>
            <a:ext cx="0" cy="2057400"/>
          </a:xfrm>
          <a:prstGeom prst="line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8610480" y="1294920"/>
            <a:ext cx="0" cy="2057400"/>
          </a:xfrm>
          <a:prstGeom prst="line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3200400" y="3123720"/>
            <a:ext cx="2819520" cy="1808280"/>
          </a:xfrm>
          <a:prstGeom prst="line">
            <a:avLst/>
          </a:prstGeom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7D4FB-CCB8-4F96-9D02-7CC655E9AD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arger View of Waveform Characteristics Ontology Used at OMG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52560" y="1079640"/>
            <a:ext cx="8191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Signal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6600cc"/>
                </a:solidFill>
                <a:uFillTx/>
                <a:latin typeface="Arial"/>
                <a:ea typeface="Times New Roman"/>
                <a:hlinkClick r:id="rId1"/>
              </a:rPr>
              <a:t>SWRI classification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 (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see </a:t>
            </a:r>
            <a:r>
              <a:rPr b="0" lang="en-US" sz="1400" spc="-1" strike="noStrike" u="sng">
                <a:solidFill>
                  <a:srgbClr val="6600cc"/>
                </a:solidFill>
                <a:uFillTx/>
                <a:latin typeface="Arial"/>
                <a:ea typeface="Times New Roman"/>
                <a:hlinkClick r:id="rId2"/>
              </a:rPr>
              <a:t>http://www.ece.neu.edu/~mbicer/Mobilecom/doc.html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Packet content: voic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(analog &amp; digital), data (digital), voice &amp; dat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Connection typ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networking, point-to-point, broadcast, multicas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Switching typ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circuit, packe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LO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yes, beyond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Access mod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push to talk, trunked, DAMA,TDMA,CDMA (direct sequence, multi-carrier), CSMA, FDM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Security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transmission, communication, non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Spectral mask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center frequency, instantaneous frequency, bandwidth, pow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Channel coding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convolutional, turbo, Reed Solomon, CRC, non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Routing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RF packets, IO packet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Source coding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yes, n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Channel estimation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adaptive, trained, blind, non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Power control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open loop, closed loop, non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4280" y="6127920"/>
            <a:ext cx="8521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 Black"/>
              </a:rPr>
              <a:t>* Need to check against JTRS waveforms (</a:t>
            </a:r>
            <a:r>
              <a:rPr b="0" lang="en-US" sz="1400" spc="-1" strike="noStrike" u="sng">
                <a:solidFill>
                  <a:srgbClr val="6600cc"/>
                </a:solidFill>
                <a:uFillTx/>
                <a:latin typeface="Arial Black"/>
                <a:hlinkClick r:id="rId3"/>
              </a:rPr>
              <a:t>http://</a:t>
            </a:r>
            <a:r>
              <a:rPr b="0" lang="en-US" sz="1400" spc="-1" strike="noStrike" u="sng">
                <a:solidFill>
                  <a:srgbClr val="6600cc"/>
                </a:solidFill>
                <a:uFillTx/>
                <a:latin typeface="Arial Black"/>
                <a:hlinkClick r:id="rId4"/>
              </a:rPr>
              <a:t>jtrs</a:t>
            </a:r>
            <a:r>
              <a:rPr b="0" lang="en-US" sz="1400" spc="-1" strike="noStrike" u="sng">
                <a:solidFill>
                  <a:srgbClr val="6600cc"/>
                </a:solidFill>
                <a:uFillTx/>
                <a:latin typeface="Arial Black"/>
                <a:hlinkClick r:id="rId5"/>
              </a:rPr>
              <a:t>.army.mil</a:t>
            </a:r>
            <a:r>
              <a:rPr b="0" lang="en-US" sz="1400" spc="-1" strike="noStrike">
                <a:solidFill>
                  <a:srgbClr val="003366"/>
                </a:solidFill>
                <a:latin typeface="Arial Black"/>
              </a:rPr>
              <a:t>) and revise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FBA03-388F-40F0-905D-C024E37744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FM</a:t>
            </a:r>
            <a:r>
              <a:rPr b="1" lang="en-US" sz="4000" spc="-1" strike="noStrike" baseline="30000">
                <a:solidFill>
                  <a:srgbClr val="ffffcc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TR Example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39960" y="1612800"/>
            <a:ext cx="8051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76320" y="1866960"/>
          <a:ext cx="9469440" cy="177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866960"/>
                    <a:ext cx="9469440" cy="17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93600" y="4292640"/>
          <a:ext cx="9423360" cy="1765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600" y="4292640"/>
                    <a:ext cx="9423360" cy="17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1114200" y="3840120"/>
            <a:ext cx="28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 Black"/>
                <a:ea typeface="Times New Roman"/>
              </a:rPr>
              <a:t>FM</a:t>
            </a:r>
            <a:r>
              <a:rPr b="0" lang="en-US" sz="1400" spc="-1" strike="noStrike" u="sng" baseline="30000">
                <a:solidFill>
                  <a:srgbClr val="003366"/>
                </a:solidFill>
                <a:uFillTx/>
                <a:latin typeface="Arial Black"/>
                <a:ea typeface="Times New Roman"/>
              </a:rPr>
              <a:t>3</a:t>
            </a: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 Black"/>
                <a:ea typeface="Times New Roman"/>
              </a:rPr>
              <a:t>TR Data Transmission Mode</a:t>
            </a:r>
            <a:r>
              <a:rPr b="0" lang="en-US" sz="1400" spc="-1" strike="noStrike">
                <a:solidFill>
                  <a:srgbClr val="003366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13560" y="1389240"/>
            <a:ext cx="29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 Black"/>
                <a:ea typeface="Times New Roman"/>
              </a:rPr>
              <a:t>FM</a:t>
            </a:r>
            <a:r>
              <a:rPr b="0" lang="en-US" sz="1400" spc="-1" strike="noStrike" u="sng" baseline="30000">
                <a:solidFill>
                  <a:srgbClr val="003366"/>
                </a:solidFill>
                <a:uFillTx/>
                <a:latin typeface="Arial Black"/>
                <a:ea typeface="Times New Roman"/>
              </a:rPr>
              <a:t>3</a:t>
            </a: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 Black"/>
                <a:ea typeface="Times New Roman"/>
              </a:rPr>
              <a:t>TR Voice Transmission Mode</a:t>
            </a:r>
            <a:r>
              <a:rPr b="0" lang="en-US" sz="1400" spc="-1" strike="noStrike">
                <a:solidFill>
                  <a:srgbClr val="003366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2B649-43C8-4747-87F9-7F5F74826C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71600" y="-165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ach Point in 2-Space Has OSI Level Meaning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6720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43560" y="3213000"/>
            <a:ext cx="257184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6357960" y="933120"/>
            <a:ext cx="1440" cy="22734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011720" y="3200400"/>
            <a:ext cx="135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Characteristic Type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5379480" y="2004120"/>
            <a:ext cx="167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Characteristic Parameter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609480" y="885960"/>
            <a:ext cx="7547040" cy="6030000"/>
            <a:chOff x="609480" y="885960"/>
            <a:chExt cx="7547040" cy="6030000"/>
          </a:xfrm>
        </p:grpSpPr>
        <p:graphicFrame>
          <p:nvGraphicFramePr>
            <p:cNvPr id="333" name=""/>
            <p:cNvGraphicFramePr/>
            <p:nvPr/>
          </p:nvGraphicFramePr>
          <p:xfrm>
            <a:off x="609480" y="3016080"/>
            <a:ext cx="7547040" cy="3689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3016080"/>
                      <a:ext cx="7547040" cy="368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5" name=""/>
            <p:cNvSpPr/>
            <p:nvPr/>
          </p:nvSpPr>
          <p:spPr>
            <a:xfrm>
              <a:off x="990720" y="885960"/>
              <a:ext cx="5289480" cy="21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3366"/>
                  </a:solidFill>
                  <a:latin typeface="Arial"/>
                </a:rPr>
                <a:t>Characteristics can be realized in </a:t>
              </a:r>
              <a:r>
                <a:rPr b="0" lang="en-US" sz="1700" spc="-1" strike="noStrike">
                  <a:solidFill>
                    <a:srgbClr val="003366"/>
                  </a:solidFill>
                  <a:latin typeface="Symbol"/>
                  <a:ea typeface="Symbol"/>
                </a:rPr>
                <a:t></a:t>
              </a:r>
              <a:r>
                <a:rPr b="0" lang="en-US" sz="1700" spc="-1" strike="noStrike">
                  <a:solidFill>
                    <a:srgbClr val="003366"/>
                  </a:solidFill>
                  <a:latin typeface="Arial"/>
                </a:rPr>
                <a:t>7 OSI layers</a:t>
              </a:r>
              <a:endParaRPr b="0" lang="en-US" sz="17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3366"/>
                  </a:solidFill>
                  <a:latin typeface="Arial"/>
                </a:rPr>
                <a:t>Layers of characteristics realized as SCA components</a:t>
              </a:r>
              <a:endParaRPr b="0" lang="en-US" sz="17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3366"/>
                  </a:solidFill>
                  <a:latin typeface="Arial"/>
                </a:rPr>
                <a:t>Layer parts gathered from multiple waveforms &amp; reused to compose a waveform protocol stack</a:t>
              </a:r>
              <a:endParaRPr b="0" lang="en-US" sz="17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3366"/>
                  </a:solidFill>
                  <a:latin typeface="Arial"/>
                </a:rPr>
                <a:t>Component layering transparent to the SCA CF</a:t>
              </a:r>
              <a:endParaRPr b="0" lang="en-US" sz="17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3366"/>
                  </a:solidFill>
                  <a:latin typeface="Arial"/>
                </a:rPr>
                <a:t>Deal with only the waveform channel but extendable to info proc and IO channels</a:t>
              </a:r>
              <a:endParaRPr b="0" lang="en-US" sz="17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31400" y="6021360"/>
              <a:ext cx="94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 Black"/>
                </a:rPr>
                <a:t>Info proc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 Black"/>
                </a:rPr>
                <a:t>channels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950360" y="6364440"/>
              <a:ext cx="183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 Black"/>
                </a:rPr>
                <a:t>Waveform channels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824120" y="6342120"/>
              <a:ext cx="11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 Black"/>
                </a:rPr>
                <a:t>IO channels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92400" y="6684840"/>
              <a:ext cx="2933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3366"/>
                  </a:solidFill>
                  <a:latin typeface="Arial"/>
                </a:rPr>
                <a:t>From </a:t>
              </a:r>
              <a:r>
                <a:rPr b="1" lang="fr-CA" sz="900" spc="-1" strike="noStrike">
                  <a:solidFill>
                    <a:srgbClr val="003366"/>
                  </a:solidFill>
                  <a:latin typeface="Arial"/>
                  <a:ea typeface="Times New Roman"/>
                </a:rPr>
                <a:t>École de technologie supérieure</a:t>
              </a:r>
              <a:r>
                <a:rPr b="0" lang="en-US" sz="900" spc="-1" strike="noStrike">
                  <a:solidFill>
                    <a:srgbClr val="003366"/>
                  </a:solidFill>
                  <a:latin typeface="Arial"/>
                </a:rPr>
                <a:t>, Jean Belzile</a:t>
              </a:r>
              <a:endParaRPr b="0" lang="en-US" sz="9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400800" y="1066320"/>
            <a:ext cx="2133720" cy="2133720"/>
            <a:chOff x="6400800" y="1066320"/>
            <a:chExt cx="2133720" cy="2133720"/>
          </a:xfrm>
        </p:grpSpPr>
        <p:grpSp>
          <p:nvGrpSpPr>
            <p:cNvPr id="341" name=""/>
            <p:cNvGrpSpPr/>
            <p:nvPr/>
          </p:nvGrpSpPr>
          <p:grpSpPr>
            <a:xfrm>
              <a:off x="6608880" y="1142640"/>
              <a:ext cx="1838520" cy="1838520"/>
              <a:chOff x="6608880" y="1142640"/>
              <a:chExt cx="1838520" cy="1838520"/>
            </a:xfrm>
          </p:grpSpPr>
          <p:sp>
            <p:nvSpPr>
              <p:cNvPr id="342" name=""/>
              <p:cNvSpPr/>
              <p:nvPr/>
            </p:nvSpPr>
            <p:spPr>
              <a:xfrm>
                <a:off x="8332920" y="1142640"/>
                <a:ext cx="114480" cy="11448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046000" y="1429560"/>
                <a:ext cx="114480" cy="11448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758000" y="1717560"/>
                <a:ext cx="114480" cy="11448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471080" y="2004480"/>
                <a:ext cx="114480" cy="11448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183800" y="2291760"/>
                <a:ext cx="114480" cy="11448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896160" y="2579400"/>
                <a:ext cx="114480" cy="11448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608880" y="2866320"/>
                <a:ext cx="114840" cy="11484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 flipV="1">
              <a:off x="6400800" y="1066320"/>
              <a:ext cx="2133720" cy="213372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19080000">
              <a:off x="7014960" y="1739520"/>
              <a:ext cx="730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 Black"/>
                </a:rPr>
                <a:t>OSI Level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8A02E-482A-4014-A2D4-9E88B85DDA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Waveform Characteristics and their Relation to the OSI Layer Model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90720" y="1257480"/>
            <a:ext cx="7327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757520" y="793800"/>
          <a:ext cx="5628960" cy="623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7520" y="793800"/>
                    <a:ext cx="5628960" cy="623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1752480" y="6248520"/>
            <a:ext cx="560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752480" y="5245200"/>
            <a:ext cx="560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752480" y="3568680"/>
            <a:ext cx="560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752480" y="3086280"/>
            <a:ext cx="560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752480" y="2730600"/>
            <a:ext cx="560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121440" y="787320"/>
            <a:ext cx="0" cy="60451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391520" y="812880"/>
            <a:ext cx="0" cy="60451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2BF68-AB9C-4679-8F59-098EA3B0B3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2T22:00:11Z</dcterms:created>
  <dc:creator>jpoe</dc:creator>
  <dc:description/>
  <dc:language>en-US</dc:language>
  <cp:lastModifiedBy>jesmith</cp:lastModifiedBy>
  <cp:lastPrinted>2001-04-18T18:28:43Z</cp:lastPrinted>
  <dcterms:modified xsi:type="dcterms:W3CDTF">2003-03-26T15:47:31Z</dcterms:modified>
  <cp:revision>261</cp:revision>
  <dc:subject/>
  <dc:title>No Slide Title</dc:title>
</cp:coreProperties>
</file>