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0208-EFC6-4182-884E-42C826159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1920" y="3885840"/>
            <a:ext cx="89917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B9D1-7ACD-4B67-B681-242190FE9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9200" y="12189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88584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9200" y="388584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BE8C-DB5B-4C9A-8E45-FBB2734C1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2120" y="12189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2320" y="121896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1920" y="388584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2120" y="388584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2320" y="3885840"/>
            <a:ext cx="28951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AEEB-DDFC-450B-8DBF-5ED9D2742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6F00-F376-4DFF-8117-994A377CC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127C-66DA-47BD-B3EF-B1E88B515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387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18960"/>
            <a:ext cx="4387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B603-9CFF-4BF0-A03E-80CBC84C1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9386-6FA7-44B3-A881-9F33DBFE0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09600" y="15876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A2E8-FD9D-4F8C-8B4D-5EC5B2D73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9200" y="1218960"/>
            <a:ext cx="4387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920" y="388584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F12E-13DD-4777-A326-3C7D0DACF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387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9200" y="12189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9200" y="388584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EFB0-83CF-4E46-A4F5-4E6C2BA24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9200" y="1218960"/>
            <a:ext cx="438768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1920" y="3885840"/>
            <a:ext cx="8991720" cy="24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82AB-98DD-4649-8196-DF7214FD5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22200" y="1066680"/>
            <a:ext cx="8821800" cy="152640"/>
            <a:chOff x="322200" y="1066680"/>
            <a:chExt cx="8821800" cy="152640"/>
          </a:xfrm>
        </p:grpSpPr>
        <p:sp>
          <p:nvSpPr>
            <p:cNvPr id="3" name=""/>
            <p:cNvSpPr/>
            <p:nvPr/>
          </p:nvSpPr>
          <p:spPr>
            <a:xfrm>
              <a:off x="1684440" y="1066680"/>
              <a:ext cx="7459560" cy="150840"/>
            </a:xfrm>
            <a:custGeom>
              <a:avLst/>
              <a:gdLst/>
              <a:ahLst/>
              <a:rect l="l" t="t" r="r" b="b"/>
              <a:pathLst>
                <a:path w="4699" h="95">
                  <a:moveTo>
                    <a:pt x="4698" y="94"/>
                  </a:moveTo>
                  <a:lnTo>
                    <a:pt x="0" y="94"/>
                  </a:lnTo>
                  <a:lnTo>
                    <a:pt x="204" y="0"/>
                  </a:lnTo>
                  <a:lnTo>
                    <a:pt x="4698" y="0"/>
                  </a:lnTo>
                  <a:lnTo>
                    <a:pt x="4698" y="94"/>
                  </a:lnTo>
                </a:path>
              </a:pathLst>
            </a:custGeom>
            <a:gradFill rotWithShape="0">
              <a:gsLst>
                <a:gs pos="0">
                  <a:srgbClr val="5382a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98720" y="1066680"/>
              <a:ext cx="782640" cy="150840"/>
            </a:xfrm>
            <a:custGeom>
              <a:avLst/>
              <a:gdLst/>
              <a:ahLst/>
              <a:rect l="l" t="t" r="r" b="b"/>
              <a:pathLst>
                <a:path w="493" h="95">
                  <a:moveTo>
                    <a:pt x="303" y="92"/>
                  </a:moveTo>
                  <a:lnTo>
                    <a:pt x="0" y="94"/>
                  </a:lnTo>
                  <a:lnTo>
                    <a:pt x="177" y="0"/>
                  </a:lnTo>
                  <a:lnTo>
                    <a:pt x="492" y="0"/>
                  </a:lnTo>
                  <a:lnTo>
                    <a:pt x="303" y="92"/>
                  </a:lnTo>
                </a:path>
              </a:pathLst>
            </a:custGeom>
            <a:gradFill rotWithShape="0">
              <a:gsLst>
                <a:gs pos="0">
                  <a:srgbClr val="5382a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55560" y="1071720"/>
              <a:ext cx="611280" cy="147600"/>
            </a:xfrm>
            <a:custGeom>
              <a:avLst/>
              <a:gdLst/>
              <a:ahLst/>
              <a:rect l="l" t="t" r="r" b="b"/>
              <a:pathLst>
                <a:path w="385" h="93">
                  <a:moveTo>
                    <a:pt x="198" y="92"/>
                  </a:moveTo>
                  <a:lnTo>
                    <a:pt x="0" y="92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198" y="92"/>
                  </a:lnTo>
                </a:path>
              </a:pathLst>
            </a:custGeom>
            <a:gradFill rotWithShape="0">
              <a:gsLst>
                <a:gs pos="0">
                  <a:srgbClr val="5382a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2200" y="1071720"/>
              <a:ext cx="487440" cy="147600"/>
            </a:xfrm>
            <a:custGeom>
              <a:avLst/>
              <a:gdLst/>
              <a:ahLst/>
              <a:rect l="l" t="t" r="r" b="b"/>
              <a:pathLst>
                <a:path w="307" h="93">
                  <a:moveTo>
                    <a:pt x="120" y="92"/>
                  </a:moveTo>
                  <a:lnTo>
                    <a:pt x="0" y="88"/>
                  </a:lnTo>
                  <a:lnTo>
                    <a:pt x="177" y="0"/>
                  </a:lnTo>
                  <a:lnTo>
                    <a:pt x="306" y="0"/>
                  </a:lnTo>
                  <a:lnTo>
                    <a:pt x="120" y="92"/>
                  </a:lnTo>
                </a:path>
              </a:pathLst>
            </a:custGeom>
            <a:gradFill rotWithShape="0">
              <a:gsLst>
                <a:gs pos="0">
                  <a:srgbClr val="5382a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610480" y="64771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F53-F1FE-4C77-8E92-3B5757E5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1880" y="71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JTRS SCA - Domain Manager represented in Statecharts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4286160"/>
            <a:ext cx="8748720" cy="21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8 November 2001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7B08-BE9B-45DC-AEC5-72DBE2C625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1920" y="133344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839952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on Candidate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628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839952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“shall” verbs (i.e., shall create, shall log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839952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verbs (present tense) (i.e., associates, verifies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839952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839952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Actions for </a:t>
            </a:r>
            <a:br>
              <a:rPr sz="3600"/>
            </a:b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CA DomainManager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6240" y="3718080"/>
            <a:ext cx="8797680" cy="14713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46040" y="4429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920" y="3860640"/>
            <a:ext cx="826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t the current level of granularity of developed statecharts, the above-mentio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ction candidates are not relev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The actions need to be rolled-up (higher level of abstraction)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presentation in Statech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7E03-BCFB-46A9-8FB6-39487EFCA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Timing Aspects for </a:t>
            </a:r>
            <a:br>
              <a:rPr sz="3600"/>
            </a:b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CA DomainManager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30464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iming aspects that could be represented in Statecharts includ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tane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9440" y="4778280"/>
            <a:ext cx="8007120" cy="12556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37840" y="5398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99800" y="4786200"/>
            <a:ext cx="739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There are no timing requirements currently identified i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CA DomainManag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terviews with SCA authors would be helpful for the identificatio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presentation of timing aspects of the SCA DomainMang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D0DD-8E60-45C4-8685-D42E3793E9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Concurrency in SCA DomainManager Statecharts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4776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currency aspects could be represented as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mposite States (separated by dotted lines) with activities occurring in parall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9440" y="3176640"/>
            <a:ext cx="7848360" cy="28573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4800" y="3341520"/>
            <a:ext cx="7372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urrently, the SCA DomainManager does not add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ncurrency aspects adequat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There is no specific about concurrency (e.g., how SCA DomainManag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andles requests simultanousl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The Statecharts have been developed with an assumptio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CA DomainManager is for single-thread process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terviews with SCA authors could be helpful for ident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nd representation of concurrency in S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1E9A-4DB5-42E3-884F-C39CE13258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Communications in SCA DomainManager Statecharts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31904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Statecharts, dynamic communications among composite-states could be represented by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 associated with a transition in one composite-state could trigger a transition in another composite-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 are used as a mechanism for representing dynamic communications (i.e., sending signal, causing transition, etc.) among composite-st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720" y="4389480"/>
            <a:ext cx="7905600" cy="165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77480" y="4554360"/>
            <a:ext cx="732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There is no specific aspects of dynamic commun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mong components are provided in the S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terviews with SCA authors could be helpful for the identificatio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presentation of communications among SCA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F6DD-ED75-4413-827C-F7D2E9774F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7360" y="201600"/>
            <a:ext cx="84708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First Attempt</a:t>
            </a:r>
            <a:br>
              <a:rPr sz="3600"/>
            </a:b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tatecharts for SCA DomainMana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2320" y="1459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7800" y="1817640"/>
            <a:ext cx="8428320" cy="4245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3240" y="1631880"/>
            <a:ext cx="1125360" cy="18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6480" y="15732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7480" y="4710240"/>
            <a:ext cx="1270080" cy="504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2960" y="46674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9480" y="536256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27320" y="5392800"/>
            <a:ext cx="1270080" cy="504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37440" y="338616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2880" y="3416400"/>
            <a:ext cx="1270080" cy="504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3440" y="4124160"/>
            <a:ext cx="12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4154400"/>
            <a:ext cx="127008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6480" y="536400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83160" y="5394240"/>
            <a:ext cx="126972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3080" y="5383080"/>
            <a:ext cx="124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regis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7760" y="5398920"/>
            <a:ext cx="126972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2680" y="2438280"/>
            <a:ext cx="1746360" cy="852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12680" y="1936800"/>
            <a:ext cx="56196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34360" y="1938240"/>
            <a:ext cx="118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Manag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2640" y="2440080"/>
            <a:ext cx="18511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gister itself, Establish Lo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Service, Create FileMg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ore ApplFacto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02320" y="2870280"/>
            <a:ext cx="3030480" cy="86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35480" y="317196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for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59040" y="2629080"/>
            <a:ext cx="1962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37400" y="2516040"/>
            <a:ext cx="145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52840" y="480204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nst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22960" y="4789440"/>
            <a:ext cx="1270080" cy="504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23920" y="5364000"/>
            <a:ext cx="105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81720" y="5394240"/>
            <a:ext cx="127008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29320" y="414036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M 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89720" y="4170240"/>
            <a:ext cx="127008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095560" y="3090960"/>
            <a:ext cx="2568600" cy="433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06800" y="311004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79720" y="3206520"/>
            <a:ext cx="2641680" cy="66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57280" y="3510000"/>
            <a:ext cx="77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181240" y="3381480"/>
            <a:ext cx="2511360" cy="9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3320" y="352260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gister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95640" y="3567240"/>
            <a:ext cx="2525760" cy="100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8320" y="4152960"/>
            <a:ext cx="91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gi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987200" y="3719520"/>
            <a:ext cx="2770200" cy="12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97320" y="3927600"/>
            <a:ext cx="106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58800" y="3754440"/>
            <a:ext cx="90972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612880" y="4765680"/>
            <a:ext cx="1704960" cy="6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86120" y="4929120"/>
            <a:ext cx="106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gister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72040" y="3726000"/>
            <a:ext cx="765000" cy="72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23920" y="4433760"/>
            <a:ext cx="2190960" cy="64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00440" y="4425840"/>
            <a:ext cx="169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Manager registe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!invalidObjectReferenc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65360" y="5024520"/>
            <a:ext cx="90972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61040" y="3768840"/>
            <a:ext cx="981000" cy="12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46600" y="4708440"/>
            <a:ext cx="106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gi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633920" y="3754440"/>
            <a:ext cx="852480" cy="164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9440" y="441648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36960" y="4448160"/>
            <a:ext cx="763920" cy="9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16720" y="375408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36920" y="3833640"/>
            <a:ext cx="7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89600" y="3740040"/>
            <a:ext cx="0" cy="7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109840" y="4476600"/>
            <a:ext cx="765000" cy="92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75000" y="490068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gister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59280" y="4952880"/>
            <a:ext cx="26064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005520" y="3754080"/>
            <a:ext cx="14400" cy="121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73520" y="4460760"/>
            <a:ext cx="81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si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64280" y="3740040"/>
            <a:ext cx="244440" cy="166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82840" y="4259160"/>
            <a:ext cx="5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l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408720" y="3739680"/>
            <a:ext cx="246240" cy="166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44640" y="4844880"/>
            <a:ext cx="64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93040" y="3740040"/>
            <a:ext cx="549000" cy="13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41560" y="4467240"/>
            <a:ext cx="712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nstall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838560" y="3754440"/>
            <a:ext cx="476280" cy="10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30200" y="3830760"/>
            <a:ext cx="78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nst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74040" y="3740040"/>
            <a:ext cx="33156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746480" y="3206520"/>
            <a:ext cx="793800" cy="98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25000" y="373860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49520" y="3343320"/>
            <a:ext cx="6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5200" y="5210280"/>
            <a:ext cx="50472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25520" y="4460400"/>
            <a:ext cx="3117960" cy="10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9080" y="3753000"/>
            <a:ext cx="604800" cy="70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5440" y="521496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Manager registe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!invalidObjectReferenc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SendNotice of InvalidObjectR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D3AA-5E4B-4E51-8121-5F5C7CAFC7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Top-level Statechart representing</a:t>
            </a:r>
            <a:br>
              <a:rPr sz="3600"/>
            </a:b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CA DomainManager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6800" y="1803240"/>
            <a:ext cx="7735680" cy="451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17960" y="1790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in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8520" y="2871720"/>
            <a:ext cx="1343160" cy="649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29160" y="3801960"/>
            <a:ext cx="3608280" cy="1819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39760" y="2352600"/>
            <a:ext cx="360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655720" y="2395440"/>
            <a:ext cx="1270080" cy="750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0760" y="28782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35320" y="5454720"/>
            <a:ext cx="21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ut-down OR Power-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9000" y="442764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52640" y="2238480"/>
            <a:ext cx="1728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47880" y="5442120"/>
            <a:ext cx="345960" cy="376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6040" y="5506920"/>
            <a:ext cx="242640" cy="231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135160" y="4964040"/>
            <a:ext cx="242424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11760" y="1936800"/>
            <a:ext cx="2971800" cy="1139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00040" y="1984320"/>
            <a:ext cx="261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gister itself, Establish L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ervice, Create FileMgr,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re ApplFacto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020680" y="3073320"/>
            <a:ext cx="2251080" cy="239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7320" y="401940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ut-down OR Power-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40280" y="326376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3160" y="3089160"/>
            <a:ext cx="966960" cy="70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8160" y="249408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_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DE86-F2BF-4437-8F3F-0CEB3926E3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7360" y="201240"/>
            <a:ext cx="847080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Refined Statechart for </a:t>
            </a:r>
            <a:br>
              <a:rPr sz="3600"/>
            </a:b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CA DM Registration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7800" y="1817640"/>
            <a:ext cx="8428320" cy="4245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0480" y="2543040"/>
            <a:ext cx="260280" cy="462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73080" y="2998800"/>
            <a:ext cx="2352600" cy="907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87560" y="327168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y for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5640" y="49910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nst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8960" y="291636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200" y="19368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76000" y="324468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25280" y="4581360"/>
            <a:ext cx="106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nstall_App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3080" y="3944880"/>
            <a:ext cx="78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nst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34200" y="2122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_Attribute reque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26880" y="256392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tribute value retur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60400" y="240840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0" y="504180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24000" y="1825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7440" y="1881360"/>
            <a:ext cx="1905120" cy="661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11440" y="5089680"/>
            <a:ext cx="1905120" cy="661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8640" y="4830840"/>
            <a:ext cx="1904760" cy="662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53360" y="4944960"/>
            <a:ext cx="1904760" cy="662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38960" y="2857680"/>
            <a:ext cx="1905120" cy="661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880" y="2303640"/>
            <a:ext cx="2973600" cy="712440"/>
          </a:xfrm>
          <a:custGeom>
            <a:avLst/>
            <a:gdLst/>
            <a:ahLst/>
            <a:rect l="l" t="t" r="r" b="b"/>
            <a:pathLst>
              <a:path w="1264" h="431">
                <a:moveTo>
                  <a:pt x="0" y="431"/>
                </a:moveTo>
                <a:cubicBezTo>
                  <a:pt x="222" y="282"/>
                  <a:pt x="444" y="134"/>
                  <a:pt x="655" y="67"/>
                </a:cubicBezTo>
                <a:cubicBezTo>
                  <a:pt x="866" y="0"/>
                  <a:pt x="1163" y="38"/>
                  <a:pt x="1264" y="3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2880" y="3911760"/>
            <a:ext cx="328680" cy="923760"/>
          </a:xfrm>
          <a:custGeom>
            <a:avLst/>
            <a:gdLst/>
            <a:ahLst/>
            <a:rect l="l" t="t" r="r" b="b"/>
            <a:pathLst>
              <a:path w="207" h="582">
                <a:moveTo>
                  <a:pt x="207" y="0"/>
                </a:moveTo>
                <a:cubicBezTo>
                  <a:pt x="110" y="78"/>
                  <a:pt x="14" y="157"/>
                  <a:pt x="7" y="254"/>
                </a:cubicBezTo>
                <a:cubicBezTo>
                  <a:pt x="0" y="351"/>
                  <a:pt x="81" y="466"/>
                  <a:pt x="162" y="58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040" y="435132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63680" y="3911760"/>
            <a:ext cx="401760" cy="923760"/>
          </a:xfrm>
          <a:custGeom>
            <a:avLst/>
            <a:gdLst/>
            <a:ahLst/>
            <a:rect l="l" t="t" r="r" b="b"/>
            <a:pathLst>
              <a:path w="253" h="582">
                <a:moveTo>
                  <a:pt x="0" y="582"/>
                </a:moveTo>
                <a:cubicBezTo>
                  <a:pt x="100" y="507"/>
                  <a:pt x="201" y="433"/>
                  <a:pt x="227" y="336"/>
                </a:cubicBezTo>
                <a:cubicBezTo>
                  <a:pt x="253" y="239"/>
                  <a:pt x="203" y="119"/>
                  <a:pt x="15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3957480"/>
            <a:ext cx="85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59040" y="3921120"/>
            <a:ext cx="401400" cy="923760"/>
          </a:xfrm>
          <a:custGeom>
            <a:avLst/>
            <a:gdLst/>
            <a:ahLst/>
            <a:rect l="l" t="t" r="r" b="b"/>
            <a:pathLst>
              <a:path w="253" h="582">
                <a:moveTo>
                  <a:pt x="0" y="582"/>
                </a:moveTo>
                <a:cubicBezTo>
                  <a:pt x="100" y="507"/>
                  <a:pt x="201" y="433"/>
                  <a:pt x="227" y="336"/>
                </a:cubicBezTo>
                <a:cubicBezTo>
                  <a:pt x="253" y="239"/>
                  <a:pt x="203" y="119"/>
                  <a:pt x="15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735440"/>
            <a:ext cx="91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gist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46360" y="3911760"/>
            <a:ext cx="1139760" cy="1182600"/>
          </a:xfrm>
          <a:custGeom>
            <a:avLst/>
            <a:gdLst/>
            <a:ahLst/>
            <a:rect l="l" t="t" r="r" b="b"/>
            <a:pathLst>
              <a:path w="718" h="745">
                <a:moveTo>
                  <a:pt x="718" y="745"/>
                </a:moveTo>
                <a:cubicBezTo>
                  <a:pt x="650" y="566"/>
                  <a:pt x="583" y="387"/>
                  <a:pt x="463" y="263"/>
                </a:cubicBezTo>
                <a:cubicBezTo>
                  <a:pt x="343" y="139"/>
                  <a:pt x="171" y="69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6720" y="2468520"/>
            <a:ext cx="2511360" cy="533520"/>
          </a:xfrm>
          <a:custGeom>
            <a:avLst/>
            <a:gdLst/>
            <a:ahLst/>
            <a:rect l="l" t="t" r="r" b="b"/>
            <a:pathLst>
              <a:path w="1318" h="327">
                <a:moveTo>
                  <a:pt x="1318" y="0"/>
                </a:moveTo>
                <a:cubicBezTo>
                  <a:pt x="1064" y="8"/>
                  <a:pt x="811" y="17"/>
                  <a:pt x="591" y="72"/>
                </a:cubicBezTo>
                <a:cubicBezTo>
                  <a:pt x="371" y="127"/>
                  <a:pt x="185" y="227"/>
                  <a:pt x="0" y="32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4920" y="2554200"/>
            <a:ext cx="1602000" cy="528840"/>
          </a:xfrm>
          <a:custGeom>
            <a:avLst/>
            <a:gdLst/>
            <a:ahLst/>
            <a:rect l="l" t="t" r="r" b="b"/>
            <a:pathLst>
              <a:path w="982" h="278">
                <a:moveTo>
                  <a:pt x="982" y="0"/>
                </a:moveTo>
                <a:cubicBezTo>
                  <a:pt x="841" y="97"/>
                  <a:pt x="701" y="194"/>
                  <a:pt x="537" y="236"/>
                </a:cubicBezTo>
                <a:cubicBezTo>
                  <a:pt x="373" y="278"/>
                  <a:pt x="186" y="266"/>
                  <a:pt x="0" y="25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24240" y="3925800"/>
            <a:ext cx="1096920" cy="1443240"/>
          </a:xfrm>
          <a:custGeom>
            <a:avLst/>
            <a:gdLst/>
            <a:ahLst/>
            <a:rect l="l" t="t" r="r" b="b"/>
            <a:pathLst>
              <a:path w="691" h="909">
                <a:moveTo>
                  <a:pt x="36" y="0"/>
                </a:moveTo>
                <a:cubicBezTo>
                  <a:pt x="18" y="96"/>
                  <a:pt x="0" y="193"/>
                  <a:pt x="109" y="345"/>
                </a:cubicBezTo>
                <a:cubicBezTo>
                  <a:pt x="218" y="497"/>
                  <a:pt x="454" y="703"/>
                  <a:pt x="691" y="9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02520" y="4035600"/>
            <a:ext cx="93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gist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3925800"/>
            <a:ext cx="900000" cy="1168560"/>
          </a:xfrm>
          <a:custGeom>
            <a:avLst/>
            <a:gdLst/>
            <a:ahLst/>
            <a:rect l="l" t="t" r="r" b="b"/>
            <a:pathLst>
              <a:path w="567" h="736">
                <a:moveTo>
                  <a:pt x="564" y="736"/>
                </a:moveTo>
                <a:cubicBezTo>
                  <a:pt x="565" y="556"/>
                  <a:pt x="567" y="377"/>
                  <a:pt x="473" y="254"/>
                </a:cubicBezTo>
                <a:cubicBezTo>
                  <a:pt x="379" y="131"/>
                  <a:pt x="189" y="6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9560" y="3795840"/>
            <a:ext cx="3116160" cy="1866600"/>
          </a:xfrm>
          <a:custGeom>
            <a:avLst/>
            <a:gdLst/>
            <a:ahLst/>
            <a:rect l="l" t="t" r="r" b="b"/>
            <a:pathLst>
              <a:path w="1963" h="1176">
                <a:moveTo>
                  <a:pt x="0" y="0"/>
                </a:moveTo>
                <a:cubicBezTo>
                  <a:pt x="529" y="147"/>
                  <a:pt x="1059" y="294"/>
                  <a:pt x="1327" y="473"/>
                </a:cubicBezTo>
                <a:cubicBezTo>
                  <a:pt x="1595" y="652"/>
                  <a:pt x="1503" y="970"/>
                  <a:pt x="1609" y="1073"/>
                </a:cubicBezTo>
                <a:cubicBezTo>
                  <a:pt x="1715" y="1176"/>
                  <a:pt x="1839" y="1133"/>
                  <a:pt x="1963" y="109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33600" y="3693960"/>
            <a:ext cx="3130560" cy="1689120"/>
          </a:xfrm>
          <a:custGeom>
            <a:avLst/>
            <a:gdLst/>
            <a:ahLst/>
            <a:rect l="l" t="t" r="r" b="b"/>
            <a:pathLst>
              <a:path w="1972" h="1064">
                <a:moveTo>
                  <a:pt x="1972" y="1064"/>
                </a:moveTo>
                <a:cubicBezTo>
                  <a:pt x="1909" y="834"/>
                  <a:pt x="1846" y="605"/>
                  <a:pt x="1518" y="428"/>
                </a:cubicBezTo>
                <a:cubicBezTo>
                  <a:pt x="1190" y="251"/>
                  <a:pt x="595" y="125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9560" y="3551400"/>
            <a:ext cx="3535200" cy="1384200"/>
          </a:xfrm>
          <a:custGeom>
            <a:avLst/>
            <a:gdLst/>
            <a:ahLst/>
            <a:rect l="l" t="t" r="r" b="b"/>
            <a:pathLst>
              <a:path w="2227" h="872">
                <a:moveTo>
                  <a:pt x="2227" y="872"/>
                </a:moveTo>
                <a:cubicBezTo>
                  <a:pt x="2108" y="681"/>
                  <a:pt x="1989" y="490"/>
                  <a:pt x="1618" y="345"/>
                </a:cubicBezTo>
                <a:cubicBezTo>
                  <a:pt x="1247" y="200"/>
                  <a:pt x="623" y="10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19560" y="3139920"/>
            <a:ext cx="3130560" cy="149400"/>
          </a:xfrm>
          <a:custGeom>
            <a:avLst/>
            <a:gdLst/>
            <a:ahLst/>
            <a:rect l="l" t="t" r="r" b="b"/>
            <a:pathLst>
              <a:path w="1972" h="94">
                <a:moveTo>
                  <a:pt x="0" y="94"/>
                </a:moveTo>
                <a:cubicBezTo>
                  <a:pt x="340" y="59"/>
                  <a:pt x="680" y="24"/>
                  <a:pt x="1009" y="12"/>
                </a:cubicBezTo>
                <a:cubicBezTo>
                  <a:pt x="1338" y="0"/>
                  <a:pt x="1655" y="10"/>
                  <a:pt x="1972" y="2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66960" y="2955960"/>
            <a:ext cx="92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l_App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319560" y="3347280"/>
            <a:ext cx="3087720" cy="74520"/>
          </a:xfrm>
          <a:custGeom>
            <a:avLst/>
            <a:gdLst/>
            <a:ahLst/>
            <a:rect l="l" t="t" r="r" b="b"/>
            <a:pathLst>
              <a:path w="1963" h="97">
                <a:moveTo>
                  <a:pt x="1963" y="6"/>
                </a:moveTo>
                <a:cubicBezTo>
                  <a:pt x="1613" y="3"/>
                  <a:pt x="1263" y="0"/>
                  <a:pt x="936" y="15"/>
                </a:cubicBezTo>
                <a:cubicBezTo>
                  <a:pt x="609" y="30"/>
                  <a:pt x="304" y="63"/>
                  <a:pt x="0" y="9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28800" bIns="28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05160" y="3432240"/>
            <a:ext cx="3780000" cy="382680"/>
          </a:xfrm>
          <a:custGeom>
            <a:avLst/>
            <a:gdLst/>
            <a:ahLst/>
            <a:rect l="l" t="t" r="r" b="b"/>
            <a:pathLst>
              <a:path w="2381" h="241">
                <a:moveTo>
                  <a:pt x="2381" y="56"/>
                </a:moveTo>
                <a:cubicBezTo>
                  <a:pt x="2171" y="148"/>
                  <a:pt x="1962" y="241"/>
                  <a:pt x="1709" y="238"/>
                </a:cubicBezTo>
                <a:cubicBezTo>
                  <a:pt x="1456" y="235"/>
                  <a:pt x="1148" y="76"/>
                  <a:pt x="863" y="38"/>
                </a:cubicBezTo>
                <a:cubicBezTo>
                  <a:pt x="578" y="0"/>
                  <a:pt x="289" y="5"/>
                  <a:pt x="0" y="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44720" y="526572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regis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4314960"/>
            <a:ext cx="16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invalid ref]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raise excp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 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57640" y="4322880"/>
            <a:ext cx="16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invalid ref]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raise excp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 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38880" y="4330800"/>
            <a:ext cx="16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invalid identifier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raise excp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 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648240"/>
            <a:ext cx="16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invalid identifier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raise excp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 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86480" y="2530440"/>
            <a:ext cx="17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invalid ref] / nulll is retur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 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DB34-FD09-4200-BC82-754ADCDB5C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ummary (1 of 2)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s is the first draft and details could be expanded in revisions of the statecharts for SCA DomainManger (i.e., events, conditions, actions, etc.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Statecharts representing SCA DomainManager are a basis for elaborating behavioral aspects of the SCA such as concurrency, timing, and dynamic communication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view by SCA authors could be helpful for such an  elaboration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8140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54A2-149B-4E83-A99F-65A26B913B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ummary (2 of 2)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roughout this exercise (development of statecharts), the following issues/questions have been raised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roductory section of SCA DomainManager is confusing (i.e., HCI, CF Administration, etc.) and needs to be revi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 for initialization activities of SCA DomainManager was not adequately spec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Manager should know when device and service registration is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mpact of multi-threaded Core Framework implementation on SCA behaviors should be analy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CA should identify necessary timing asp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process of development of these statecharts helps identify a number of questions on SCA in terms of consistency, completeness, and unambiguity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417F-1819-4D6D-9C5F-3D746CFA12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Outline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3920" y="1347840"/>
            <a:ext cx="8742240" cy="507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chnical Approach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ground - Statechart Notations/Defin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ite State candidates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candidates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candidates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 candidates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candidates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 requirements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cy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s for SCA Domain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p-level Statechart for SCA DomainManager (DM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ierarchical &amp; Concurrent Statechart for SCA DM Registr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fined Statechart for SCA DM Registr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89B8-EAA2-4FA8-A71F-620C090CDD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Technical Approach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24776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o over Section 3.1.3.2.3 (DomainManager) in the SCA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dentify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ite-State and State Candi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 Candi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 Candi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Candi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s of Timing, Concurrency, and Commun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velop a Top-level Statechart for SCA DomainManager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velop a hierarchical and concurrent Statechart for SCA DomainManager (Assumption: Doing reverse-engineering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ll-up and simplify the Statechart (Refinement)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0640" y="5772240"/>
            <a:ext cx="7950240" cy="8078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360" y="5772240"/>
            <a:ext cx="77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 goal of this task is to propose a systematic approach for representing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haracteristics of SCA Architectural Components, using SCA DomainManager a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ase study and for identifying potential issues of the current behavioral descrip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C781-F8F8-4D26-A05D-A89AA8AC1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tatechart Notations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54080" y="1704960"/>
            <a:ext cx="7215120" cy="4229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2680" y="1733400"/>
            <a:ext cx="0" cy="421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90640" y="12556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57840" y="3726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1120" y="3870360"/>
            <a:ext cx="4587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9960" y="1792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1844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1400" y="39877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1640" y="2730600"/>
            <a:ext cx="1256040" cy="576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2640" y="4427640"/>
            <a:ext cx="1255680" cy="576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81640" y="2174760"/>
            <a:ext cx="125568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027240"/>
            <a:ext cx="125568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1000" y="5105520"/>
            <a:ext cx="1256040" cy="576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75480" y="4094280"/>
            <a:ext cx="1255680" cy="576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78160" y="4051440"/>
            <a:ext cx="1255680" cy="576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5720" y="2874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90880" y="45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3480" y="2290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18240" y="31719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1280" y="41673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82760" y="52783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94520" y="42400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5040" y="3306600"/>
            <a:ext cx="341280" cy="1111320"/>
          </a:xfrm>
          <a:custGeom>
            <a:avLst/>
            <a:gdLst/>
            <a:ahLst/>
            <a:rect l="l" t="t" r="r" b="b"/>
            <a:pathLst>
              <a:path w="215" h="700">
                <a:moveTo>
                  <a:pt x="178" y="0"/>
                </a:moveTo>
                <a:cubicBezTo>
                  <a:pt x="89" y="87"/>
                  <a:pt x="0" y="174"/>
                  <a:pt x="6" y="291"/>
                </a:cubicBezTo>
                <a:cubicBezTo>
                  <a:pt x="12" y="408"/>
                  <a:pt x="113" y="554"/>
                  <a:pt x="215" y="7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5600" y="3306600"/>
            <a:ext cx="193680" cy="1125720"/>
          </a:xfrm>
          <a:custGeom>
            <a:avLst/>
            <a:gdLst/>
            <a:ahLst/>
            <a:rect l="l" t="t" r="r" b="b"/>
            <a:pathLst>
              <a:path w="122" h="709">
                <a:moveTo>
                  <a:pt x="0" y="709"/>
                </a:moveTo>
                <a:cubicBezTo>
                  <a:pt x="58" y="650"/>
                  <a:pt x="116" y="591"/>
                  <a:pt x="119" y="473"/>
                </a:cubicBezTo>
                <a:cubicBezTo>
                  <a:pt x="122" y="355"/>
                  <a:pt x="70" y="177"/>
                  <a:pt x="19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7400" y="4427640"/>
            <a:ext cx="379440" cy="322200"/>
          </a:xfrm>
          <a:custGeom>
            <a:avLst/>
            <a:gdLst/>
            <a:ahLst/>
            <a:rect l="l" t="t" r="r" b="b"/>
            <a:pathLst>
              <a:path w="239" h="203">
                <a:moveTo>
                  <a:pt x="0" y="203"/>
                </a:moveTo>
                <a:cubicBezTo>
                  <a:pt x="90" y="160"/>
                  <a:pt x="181" y="118"/>
                  <a:pt x="210" y="85"/>
                </a:cubicBezTo>
                <a:cubicBezTo>
                  <a:pt x="239" y="52"/>
                  <a:pt x="208" y="6"/>
                  <a:pt x="173" y="3"/>
                </a:cubicBezTo>
                <a:cubicBezTo>
                  <a:pt x="138" y="0"/>
                  <a:pt x="69" y="33"/>
                  <a:pt x="0" y="6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19680" y="2759040"/>
            <a:ext cx="1326960" cy="692280"/>
          </a:xfrm>
          <a:custGeom>
            <a:avLst/>
            <a:gdLst/>
            <a:ahLst/>
            <a:rect l="l" t="t" r="r" b="b"/>
            <a:pathLst>
              <a:path w="836" h="436">
                <a:moveTo>
                  <a:pt x="0" y="0"/>
                </a:moveTo>
                <a:cubicBezTo>
                  <a:pt x="21" y="140"/>
                  <a:pt x="43" y="281"/>
                  <a:pt x="182" y="354"/>
                </a:cubicBezTo>
                <a:cubicBezTo>
                  <a:pt x="321" y="427"/>
                  <a:pt x="578" y="431"/>
                  <a:pt x="836" y="4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7840" y="2398680"/>
            <a:ext cx="1173240" cy="635040"/>
          </a:xfrm>
          <a:custGeom>
            <a:avLst/>
            <a:gdLst/>
            <a:ahLst/>
            <a:rect l="l" t="t" r="r" b="b"/>
            <a:pathLst>
              <a:path w="739" h="400">
                <a:moveTo>
                  <a:pt x="618" y="400"/>
                </a:moveTo>
                <a:cubicBezTo>
                  <a:pt x="678" y="269"/>
                  <a:pt x="739" y="139"/>
                  <a:pt x="636" y="72"/>
                </a:cubicBezTo>
                <a:cubicBezTo>
                  <a:pt x="533" y="5"/>
                  <a:pt x="266" y="2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29000" y="4621320"/>
            <a:ext cx="1068480" cy="822240"/>
          </a:xfrm>
          <a:custGeom>
            <a:avLst/>
            <a:gdLst/>
            <a:ahLst/>
            <a:rect l="l" t="t" r="r" b="b"/>
            <a:pathLst>
              <a:path w="673" h="518">
                <a:moveTo>
                  <a:pt x="73" y="0"/>
                </a:moveTo>
                <a:cubicBezTo>
                  <a:pt x="36" y="107"/>
                  <a:pt x="0" y="214"/>
                  <a:pt x="100" y="300"/>
                </a:cubicBezTo>
                <a:cubicBezTo>
                  <a:pt x="200" y="386"/>
                  <a:pt x="436" y="452"/>
                  <a:pt x="673" y="51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40320" y="4346640"/>
            <a:ext cx="723960" cy="779400"/>
          </a:xfrm>
          <a:custGeom>
            <a:avLst/>
            <a:gdLst/>
            <a:ahLst/>
            <a:rect l="l" t="t" r="r" b="b"/>
            <a:pathLst>
              <a:path w="456" h="491">
                <a:moveTo>
                  <a:pt x="391" y="491"/>
                </a:moveTo>
                <a:cubicBezTo>
                  <a:pt x="423" y="400"/>
                  <a:pt x="456" y="309"/>
                  <a:pt x="391" y="227"/>
                </a:cubicBezTo>
                <a:cubicBezTo>
                  <a:pt x="326" y="145"/>
                  <a:pt x="163" y="72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54720" y="4070520"/>
            <a:ext cx="1227240" cy="188640"/>
          </a:xfrm>
          <a:custGeom>
            <a:avLst/>
            <a:gdLst/>
            <a:ahLst/>
            <a:rect l="l" t="t" r="r" b="b"/>
            <a:pathLst>
              <a:path w="773" h="119">
                <a:moveTo>
                  <a:pt x="773" y="119"/>
                </a:moveTo>
                <a:cubicBezTo>
                  <a:pt x="664" y="69"/>
                  <a:pt x="556" y="20"/>
                  <a:pt x="427" y="10"/>
                </a:cubicBezTo>
                <a:cubicBezTo>
                  <a:pt x="298" y="0"/>
                  <a:pt x="149" y="28"/>
                  <a:pt x="0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7560" y="4707000"/>
            <a:ext cx="1066680" cy="750960"/>
          </a:xfrm>
          <a:custGeom>
            <a:avLst/>
            <a:gdLst/>
            <a:ahLst/>
            <a:rect l="l" t="t" r="r" b="b"/>
            <a:pathLst>
              <a:path w="490" h="491">
                <a:moveTo>
                  <a:pt x="0" y="491"/>
                </a:moveTo>
                <a:cubicBezTo>
                  <a:pt x="140" y="468"/>
                  <a:pt x="281" y="446"/>
                  <a:pt x="363" y="364"/>
                </a:cubicBezTo>
                <a:cubicBezTo>
                  <a:pt x="445" y="282"/>
                  <a:pt x="467" y="141"/>
                  <a:pt x="49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2400" y="35798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1[c1 ^ c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02520" y="35164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/a1;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5480" y="4707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69000" y="2905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/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69120" y="2195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29000" y="480060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1/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0320" y="464976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 (en[I],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55000" y="524520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[c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03800" y="389268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622320" y="1517760"/>
            <a:ext cx="360360" cy="793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782360" y="1352520"/>
            <a:ext cx="606600" cy="592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38840" y="111276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site-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609960" y="1494000"/>
            <a:ext cx="738360" cy="820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35560" y="122544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686720" y="4513320"/>
            <a:ext cx="722160" cy="765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49400" y="42577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139560" y="1442880"/>
            <a:ext cx="1922760" cy="21211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3160" y="11556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25040" y="4737240"/>
            <a:ext cx="981000" cy="461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9240" y="524016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7560" y="4678200"/>
            <a:ext cx="468360" cy="621000"/>
          </a:xfrm>
          <a:custGeom>
            <a:avLst/>
            <a:gdLst/>
            <a:ahLst/>
            <a:rect l="l" t="t" r="r" b="b"/>
            <a:pathLst>
              <a:path w="295" h="391">
                <a:moveTo>
                  <a:pt x="245" y="0"/>
                </a:moveTo>
                <a:cubicBezTo>
                  <a:pt x="270" y="67"/>
                  <a:pt x="295" y="135"/>
                  <a:pt x="254" y="200"/>
                </a:cubicBezTo>
                <a:cubicBezTo>
                  <a:pt x="213" y="265"/>
                  <a:pt x="106" y="328"/>
                  <a:pt x="0" y="39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465768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c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70320" y="4905360"/>
            <a:ext cx="1154160" cy="1298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91560" y="6093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00" y="6032520"/>
            <a:ext cx="1689120" cy="650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120" y="599904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Text :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 :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c] :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3B72-8BC4-449D-9CFC-F97B4ADC5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tatechart - Definitions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60" y="1106280"/>
            <a:ext cx="9342720" cy="57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te 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uation in the life of an object during which it satisfies some condition, performs some activity, or waits for some ev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posite-Stat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tate that  consists of either concurrent substates or disjoint sub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vent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tion of a significant occurrence that has a location in time &amp;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occurrence of a stimulus that can trigger a state tran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dition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guard is rendered as a Boolean expression and evaluated after the trigger event for its transition occu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ion 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xecutable atomic computation that results in a change in state (transition) of the system or the return of a val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represent method calls, the creation or destruction of another object, or the sending of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.g., a message that perceived as an event, etc.) to an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ition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 between two states indicating that an object in the first state will perform certain actions and enter the second state when a specified event occurs and specified conditions are satis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4ABC-A36A-4C38-A29F-13C9EB630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Composite-States and States for SCA DomainManager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080" y="1219320"/>
            <a:ext cx="8991720" cy="556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p-level Composite-State Candidates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(from introductory text in SCA Section 3.1.3.2.1)</a:t>
            </a:r>
            <a:endParaRPr b="1" lang="en-US" sz="1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Computer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 Admini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te Candidate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of internal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Domain, Get Domain Capabilities, Initiate Maintenanc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responding to method c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 DeviceManagers, Register DeviceManager’s Devices, Register DeviceManager’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register DeviceManagers, Unregister DeviceManager’s Devices, Unregister DeviceManager’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nstall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methods that may result in several st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9B2D-BC8E-494F-A813-E82CFD0A75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Composite-States and States for SCA DomainMana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99172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lected Top-level Composite-State Candi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selected Composite State Candidate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not reflected in current DM behavi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Computer Interface, CF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lected State Candi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DeviceManagers, Register DeviceManager’s Devices, Register DeviceManager’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gister DeviceManagers, Unregister DeviceManager’s Devices, Unregister DeviceManager’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 Applications, Uninstall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omainManager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selected State Candidate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beyond the scope of DomainMana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e Domain, Get Domain Capabilities, Initiate Maintenanc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307D-DB91-4104-9C75-61631C2B29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Events for </a:t>
            </a:r>
            <a:br>
              <a:rPr sz="3600"/>
            </a:b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CA DomainManager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vent candidate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s” (specified in SCA DomainManage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Device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Device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gister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2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nstall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method calls (e.g., ‘getAttribute’) could also be good candidates for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9440" y="5367240"/>
            <a:ext cx="7949880" cy="8082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9600" y="5392800"/>
            <a:ext cx="76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The description should be enhanced for better identification of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terviews with SCA authors would be helpf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C956-484E-43A3-852D-B749B5AC1E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9600" y="15876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Conditions for </a:t>
            </a:r>
            <a:br>
              <a:rPr sz="3600"/>
            </a:br>
            <a:r>
              <a:rPr b="1" i="1" lang="en-US" sz="3600" spc="-1" strike="noStrike">
                <a:solidFill>
                  <a:srgbClr val="cc0066"/>
                </a:solidFill>
                <a:latin typeface="Arial"/>
              </a:rPr>
              <a:t>SCA DomainManager</a:t>
            </a:r>
            <a:endParaRPr b="1" i="1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7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ceptions in SCA DomainManager are good aspects for identifying candidates for conditions in statechart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InstallationErr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Ident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iceManagerNotRegister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ObjectRe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Pro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iceManagerNotRegist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File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9440" y="5367240"/>
            <a:ext cx="7949880" cy="8082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52960" y="53928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0680" y="5419800"/>
            <a:ext cx="59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xceptions are rolled-up (higher level of abstraction)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represented as conditions in Statecharts for SCA 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B7AC-D3DE-493E-A0C6-A812A0E56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3T15:20:05Z</dcterms:created>
  <dc:creator>CDR Jim Smith</dc:creator>
  <dc:description/>
  <dc:language>en-US</dc:language>
  <cp:lastModifiedBy>mcclimem</cp:lastModifiedBy>
  <cp:lastPrinted>2001-11-08T19:17:55Z</cp:lastPrinted>
  <dcterms:modified xsi:type="dcterms:W3CDTF">2001-11-09T12:57:15Z</dcterms:modified>
  <cp:revision>484</cp:revision>
  <dc:subject/>
  <dc:title>Proposed JTRS Acquisition Strategy</dc:title>
</cp:coreProperties>
</file>