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ECECF-7B76-4156-8E82-C5230F449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4BDC-CB68-405C-B607-03CDD778F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90872-2D1E-4BA1-967D-5459621831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0AF7E-DDCD-497C-8F8D-2468CC623B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17C9-975B-46F1-954D-CE9B133FA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15228-9855-4915-B45C-89D052FCE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98C5-211C-4809-A46A-F3C5B905A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D8ADC-7605-4D39-A704-A23714A46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994D4-BC19-4F22-ACEE-5F39ED41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CF70-8515-40EC-8EA2-A692AFD45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3C35-DF46-4458-8121-1A6A697B1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B9C28-0F2E-44AE-AF87-AC30A7D0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F12F80-B050-473A-8B5B-672D8DD637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52280" y="1447920"/>
            <a:ext cx="8839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5360" indent="-2253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ond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SW Radio 2002 roadmap, actions and assignm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viewed briefings to Telecom and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ed mapping between Deployment and Software Radio PI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ue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to Telecom, focus on Deployment and Configur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summary form of SW Radio RFP to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 with “AB Buddy” to discuss RFP submittal guida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2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, M. McClimens, J. Bick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70680" y="450720"/>
            <a:ext cx="246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D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76320" y="1371600"/>
            <a:ext cx="9448920" cy="44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5360" indent="-2253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ighlights from this Meeting (continued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edne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EI SW Radio - MDA discuss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esented SW Radio/SCA overview at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 Crisis Response D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t with RT PSIG to disc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ock interfaces in the CORBA Co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 Embedded CORBA RF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dentification of features needed in Minimum CORB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upport of Minimum Services RFP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6360" indent="-23652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ursd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ed Interoperable Tactical Communication requirements &amp; opportunities with C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52480" indent="-16200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iscussed how to coordinate the SW Radio and Deployment and Configuration RFP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2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, M. McClimens, J. Bick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70680" y="450720"/>
            <a:ext cx="246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D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457200" y="1447560"/>
            <a:ext cx="81532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207000" indent="-207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Draft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 Radio </a:t>
            </a: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RFP constructed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Published PIM draft on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  <a:ea typeface="Arial"/>
              </a:rPr>
              <a:t>Constructed Software PIM Conventions for our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ployment and Configuration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W Radio R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arious Lightweight Services Contributions to RT P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07000" indent="-2070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enda Items for the Orlando Meeting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ssue SW Radio R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SW Radio RFP PI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raft Deployment and Configuration sub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ghtweight Service contribu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29920" indent="-2174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cuss Embedded CORBA with RT PSI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2 April 20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J. Smith, M. McClimens, J. Bick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wradio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wradio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70680" y="450720"/>
            <a:ext cx="24667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DSI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>Wayne Haughey</dc:creator>
  <dc:description/>
  <dc:language>en-US</dc:language>
  <cp:lastModifiedBy>jesmith</cp:lastModifiedBy>
  <dcterms:modified xsi:type="dcterms:W3CDTF">2002-05-09T15:12:01Z</dcterms:modified>
  <cp:revision>52</cp:revision>
  <dc:subject/>
  <dc:title>{TF/SIG/WG/SC Name Here}</dc:title>
</cp:coreProperties>
</file>