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63D-66EF-48CF-B7A8-D13C62FB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5A3-C262-483D-8B09-C5406FC5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63F-EB53-490B-B19E-55BF1120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003-D963-46FB-ACF5-48D8ED84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1F3-0E57-422A-89F0-35787056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815-8FA6-4156-B5D5-B2F59D4A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BF8-E1FC-4D66-84CE-63FCD9BF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19E-7306-48D4-9868-9FA7F8D9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FFF-AD9E-4A7E-977F-55E4ED7E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0E3-500A-4274-B648-C431E5CE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488-2870-48E3-AED6-C902EA04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532-FEB8-4094-A4F5-4B25DDF6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1824-2A4E-4D48-A87C-782A7A94B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s from this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&amp; C issues discussion and submission approval (M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 Radio discussion and presentation (Telec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weight CCM revised submission and presentation (M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6 Jun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J. Smith, K. Richard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6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adio D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8520" indent="-21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ables from this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93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Deployment and Configuration of Components Sub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93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Lightweight CCM Sub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93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SW Radio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93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SCA mapping against OMG spe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93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High Assurance 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Deliverables (In-Process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9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R Revised Submission (Updated PIM and PSM) and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9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weight Services Revised Submission and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9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 &amp; C F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9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ghtweight CCM R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8520" indent="-21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 Items for the Boston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9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, update and working session for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1752480"/>
            <a:ext cx="3962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6360" indent="-236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522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6 Jun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J. Smith , K. Richard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57200"/>
            <a:ext cx="406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adio D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15:58:21Z</dcterms:created>
  <dc:creator>Wayne Haughey</dc:creator>
  <dc:description/>
  <dc:language>en-US</dc:language>
  <cp:lastModifiedBy>Jeff Smith</cp:lastModifiedBy>
  <dcterms:modified xsi:type="dcterms:W3CDTF">2003-06-05T07:43:44Z</dcterms:modified>
  <cp:revision>58</cp:revision>
  <dc:subject/>
  <dc:title>{TF/SIG/WG/SC Name Here}</dc:title>
</cp:coreProperties>
</file>