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F43-1F13-4B12-8BAF-92E49465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3A6-26F9-431C-A4CD-04538472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520-ADE4-4408-9C49-07EF43D0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795-C017-4979-823A-3363AB95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0F2-447C-4692-AC29-9195DAA3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C2A-E729-4583-9FAF-BF4A6E97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5B5-9252-4926-B626-E90AFF15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9DD-A799-4F09-A8B2-3289BA66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49C-6A8E-4600-89A7-AE68B572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C17-35F0-49EF-ACA8-0D52DFDC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243-7D76-47D9-94AD-5659112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F22-29B6-417F-B31B-8497A95E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E78D-C6FB-493A-8C12-E3292F77A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 from thi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31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587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G Standards and the SC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587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R Metamodel and the PI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587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 Concept Presentation (of Coalition Waveform)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587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hieving Coalition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eroperability Through Software Defined Radi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587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ment and Configuration AB meeting RFP 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31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5876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lored RFC/RFP options with 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5876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M development working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8-31 Jan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Fred Waskiewicz for J. Bickle, M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limens &amp; J.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 from this Meeting (continu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MGiz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SCA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P submittal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M development working session contin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ed data flow inputs to UML 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level packages for PIM Model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nd Telecom Task Force 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ment and Configuration AB meeting RFP 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ing data flow overview to Systems Engineering D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8-31 Jan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Fred Waskiewicz for J. Bickle, M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limens &amp; J.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ables from thi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OMG Standards and the SCA -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SWR Metamodel and the PIM -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Draft Concept Presentation (of Coalition Waveform) -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Achieving Coalition C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Interoperability Through Software Defined Radios -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Lastest Working Version of the PIM – Ros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SWR Metamodel and the PIM -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R PIM conventions -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Deliverables (In-Proces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Radio “Deployment and Configuration” R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P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Items for the Japan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P Submit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(on web) P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52480"/>
            <a:ext cx="3962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6360" indent="-23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8-31 Jan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Fred Waskiewicz  for J. Bickle, M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limens &amp; J.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5:58:21Z</dcterms:created>
  <dc:creator>Wayne Haughey</dc:creator>
  <dc:description/>
  <dc:language>en-US</dc:language>
  <cp:lastModifiedBy>jesmith</cp:lastModifiedBy>
  <dcterms:modified xsi:type="dcterms:W3CDTF">2002-02-01T00:21:04Z</dcterms:modified>
  <cp:revision>40</cp:revision>
  <dc:subject/>
  <dc:title>{TF/SIG/WG/SC Name Here}</dc:title>
</cp:coreProperties>
</file>